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E6A-FAF8-43D2-B200-36392489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E2A-2E67-4316-B6F2-8F4D8D0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CA3-00BB-463C-BD68-7879CEE9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6EB-F079-42B7-80B1-93A2DA6A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380-9540-4306-9166-27C092C7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B9E-43D1-41E0-82B2-36F2EBCB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AEF-46E3-43A8-8631-C52EFD9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6CE-469E-4F00-85D4-CA95984C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907-2255-4BD9-85C6-39C3D047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69E-3CEB-4691-A063-BEB92BC0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882-C752-4EBE-9B16-1379913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3B2-B352-4C6C-B55B-B2ECA4EA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D2F-713C-4FBD-A7C6-B7C96FB44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9280" y="2819520"/>
            <a:ext cx="7092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PSK31 for the Radio Amat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y WS8G (Ri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2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t the XWARN Club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sk3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4956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Resources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Hoo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igBlaster nomic  $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ttp://www.westmountainradio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br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ttp://www.w5bbr.com/soundbd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ckscomm  ($25-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ttp://www.buckscommco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What is PS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gital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es Personal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TNC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ns on Fre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great reason to become General Class Am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signed for typing back and forth between h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es Phase Shift Keying (PS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es just a tiny slice of bandwidth! 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just 31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ery low power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5 Watt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to Euro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How to do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wnload compute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receive only, just hook sound card up to spe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es HF SSB (FM star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transmit, need to buy/build a small interface  ($25-$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Frequenc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838.150,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3580.150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7080.15, 10142.1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14070.150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,18100.1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1080.150 or 21070.1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4920.150, 28120.1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creen S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nPSK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 Q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WinPSKse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4443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Rig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e your own HF r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r build 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mall W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s ($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PSKSmallWonder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4038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Resources: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y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ttp://www.qsl.net/ws8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Look at the ham radio p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SK31 Home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ttp://aintel.bi.ehu.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/psk31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Resources: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arbl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tp://www.qsl.net/winwarbler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n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tp://www.qsl.net/ae4jy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nPS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tp://www.imiwebs.com/winpsks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gi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tp://members.home.com/hteller/digipan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sk3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14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21:17:37Z</dcterms:created>
  <dc:creator>AFRL/HE</dc:creator>
  <dc:description/>
  <dc:language>en-US</dc:language>
  <cp:lastModifiedBy>AFRL/HE</cp:lastModifiedBy>
  <dcterms:modified xsi:type="dcterms:W3CDTF">2001-03-12T21:35:11Z</dcterms:modified>
  <cp:revision>1</cp:revision>
  <dc:subject/>
  <dc:title>PowerPoint Presentation</dc:title>
</cp:coreProperties>
</file>