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7E3-23C9-45D2-91AD-C8B9FF0EA0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EB1D-062F-48FF-8E60-E281E1DF11D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C7F-43E3-4200-9F17-EC799810EFD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ABB-FEC2-4805-A789-78B0177DC4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717-86B1-40D7-A384-566FFEE4D32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080F-0CAF-4096-B2D0-CED29BE2E64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6F6-1206-4619-990E-AEF1970D02F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910-6B91-4438-A486-812A26CA946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1575-1C7E-459D-9D31-C11D9CA5F0C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2E9B-E2D6-4697-B3C3-F174D30B8C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EE4B-02EC-4F97-9DF8-3CA91189A4C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444-0D76-49D3-AC5A-374A7F6026C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B35-4507-4BB4-BE52-3649F41D77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BE4A-02DE-401E-9DFA-D947072C61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3A5-B9D3-4434-89C2-B9E19DE480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9A08-9A64-4AC5-BE79-23457E83AF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56B-CAEB-4499-A7A1-FEAF7A159E4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EF0-D11C-42A2-A102-3F9DBBE2CE5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F89-B520-4F8C-85D4-FFDFE1B5F9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E294-A9F3-44A6-B4EB-C3A953E3CC2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D9F-9F6F-4130-89F2-C9BBC074017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BB3-8D93-474A-9048-FE0FBA87B1D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CA29-0433-4BD3-AF69-E07986F92B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9F18-6D92-4DB4-ADB9-060C3175CFF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C587-960C-43E8-A31B-6745E1AF67E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22F-E0C5-48EC-88B8-5B5CA316548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595-4D75-43A6-86C0-B5024199CDA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BD5-DA53-4AF4-B14A-9C1371E7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122-0FAC-46D6-85C6-EB6F232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D98-58C2-43ED-8EC5-EE358298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177-2032-4F45-A493-93D2AE88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93F-CE8B-4150-B480-C3CB0D83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CC1-D445-4B9A-8C0C-5E974C0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901-12E4-47A4-8A78-6B99F4D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786-4A5C-46A2-B792-E3675AF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24A-2845-43AD-8854-B3FEC06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366-AE40-4D15-BE72-240BCC0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B40-C494-43B9-B1CE-51DB9D0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EE5-669A-4DE9-A9CA-BD70123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E05A-F270-4EBF-BB83-5D1F4C4353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295280"/>
            <a:ext cx="8839440" cy="1828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ΙΟΝΟΣΦΑΙΡΙΚΗ ΔΙΑΔΟΣΗ ΥΠΕΡΥΨΗΛΩΝ ΣΥΧΝΟΤΗΤΩΝ ΣΤΗ ΔΙΑΡΚΕΙΑ ΤΩΝ ΤΡΙΩΝ ΤΕΛΕΥΤΑΙΩΝ ΗΛΙΑΚΩΝ ΚΥΚΛΩΝ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(1978-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33560" y="5257440"/>
            <a:ext cx="518148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ώστας Φιμερέλης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V1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ΔΕ,  Δεκ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Λ. ΚΥΚΛΟΣ 2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ΙΘΑΝΟΤΗΤΑ ΔΙΑΔΟΣΗΣ ΣΤΟΥΣ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Mhz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ΑΝΑΛΟΓΑ ΜΕ ΤΗΝ ΩΡΑ ΤΗΣ ΗΜΕΡ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4549" t="0" r="0" b="0"/>
          <a:stretch/>
        </p:blipFill>
        <p:spPr>
          <a:xfrm>
            <a:off x="228600" y="9144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Λ. ΚΥΚΛΟΣ 2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ΠΙΘΑΝΟΤΗΤΑ ΔΙΑΔΟΣΗΣ ΣΤΟΥΣ 5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hz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ΑΝΑΛΟΓΑ ΜΕ ΤΗΝ ΩΡΑ ΤΗΣ ΗΜΕΡ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52280" y="914400"/>
            <a:ext cx="8839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ΙΑΔΟΣΗ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PATH (LP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ΤΟΥΣ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Mhz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4969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ορίζεται 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A, KH6, KH8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αζ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80-23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οι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οίγματα 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A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στα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0900Km, LP ~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ύριο παράθυρ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2100-2430z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z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A1,2,3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υτ. παράθυρ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30-1300z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2z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R6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οναδικό παρα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0800-0900z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σκέδασ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σθενικά σήματα, ανάγκη γιά χαμηλό ραδιοθόρυ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ώτο άνοιγμ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/10/88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ιν από το πρώτο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οίγματα 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H6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. αποστ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6600Km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νέν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P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ύριο παράθυρ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0830-1030z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χι σήμα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F)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5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υτ. παράθυρ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1900-1930z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πάνιο παρά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1500-1900z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σκέδαση στ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) (3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σχυρά και καθαρά σή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ΙΑΔΟΣΗ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NG-PATH (LP)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Υ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Mhz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Υ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3962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οίγματα πρ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KH8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γ. αποστ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3000Km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νέν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P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οναδικό παράθυρ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2000-2230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τρια ως ισχυρά σήματα με λίγες διαλήψεις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οναδικό άνοιγμα προ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J2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ι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845z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άνω απο ΝΑ Ασία με ελαφρά σκέδαση, απόστασ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30600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οναδικό άνοιγμα πρ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Z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χρι του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45Mhz (video carrier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στι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100-2245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ΧΟΓΡΑΦΗΣΗ ΤΟΥ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H6/K6MI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ΥΣ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50Mhz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0930z – 18 Oct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140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ΧΟΓΡΑΦΗΣΗ ΤΟΥ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H8/N5OLS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ΥΣ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50Mhz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2110z – 7 April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325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ΧΟΓΡΑΦΗΣΗ ΤΟΥ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0Y/W7XU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ΥΣ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50Mhz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2145z – 3 April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3695760"/>
            <a:ext cx="21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647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ΕΠΑΦΕΣ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EX-QRP 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ΤΟΥΣ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50 Mhz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3816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το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ZS6L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 απόστασ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7000 Km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έσ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-TE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χρήσ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mW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SB (19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ξασθένηση ζεύξης περίπου του κενού χώρο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το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Y5CC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 απόσταση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000 Km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έσ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F2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F2)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χρήση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mW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SB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ξασθένηση ζεύξης μερικά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άνω από κενό χώ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ΔΙΑΔΟΣΗ ΜΕ ΣΚΕΔΑΣΗ (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atter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S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05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TTER TO    SEASON   TIME(z)      QTF           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. EU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 &amp;Oct  12-13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abic Pen.    Northern TEP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. EU                       “         14-16       NW. A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derate sig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. EU                 end Oct    09-10      Central AS         Weak s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. EU                      “          13-14      Caribbean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                    Mar-Apr    ~10       Arabic  Pen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weak s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&amp;Carib.          late Oct    13-20       NW. AF             Weak  s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                    late Mar   19-23       SW. AF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&amp;distorted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ΙΑΔΟΣΗ ΜΕ ΠΟΛΛΑΠΛΗ ΑΝΑΠΗΔΗΣΗ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3352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υρίως προς Καραιβική αλλά και Ν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Αμερικ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ταξύ 25 Μαίου και 15 Ιούλ. απ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0-22z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 μέτρια σήματ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γιστη απόσταση μέχρ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Km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Ρ-Ιούλ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ίσης την ίδια περίοδο προς Ασία και Δυτ.Ειρηνικ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16z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 ασθενικά σήματ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Φυσικά και προς Αν.- Κεντρική- Δυτ. Αφρική 07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ΠΕΡΙΕΧΟΜΕ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εωγραφικοί περιορισμοί και ραδιοθόρυβ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ισημερινή διάδοσ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 &amp; E-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άδοση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2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P-LP-L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άδοση με σκέδασ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t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άδοση 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ικτοί τρόποι διάδο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ΔΙΑΔΟΣΗ ΜΕ ΜΙΚΤΟΥΣ ΤΡΟΠΟΥ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16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υσχερής αναγνώριση των τρόπων διάδοσης που συμμετέχου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ρικά πιθανά παραδείγματ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όχι κατευθείαν ανοίγματα προ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2+F2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ανοίγματα πρ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K8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σα Ιουνίο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             Es+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ανοίγματα προ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K9X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σα Απριλίο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    Es+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ανοίγματα πρ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Q9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έλη Απριλίο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         Es+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ανοίγματα πρ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U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σα Οκτωβρίο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        Es+F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ΠΕΡΑΣΜΑΤΑ ΔΙΑΔΟΣΗΣ ΣΤΟΥ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M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Η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608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ΓΕΩΜΑΓΝΗΤΙΚΗ ΘΕΣΗ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P LAT.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Υ ΣΤΑΘΜΟΥ ΕΙΝΑΙ ΠΟΛΥ ΣΗΜΑΝΤΙΚΗ ΚΑΙ Η ΒΕΛΤΙΣΤΗ ΕΙΝΑΙ ΜΕΣΑ ΣΤΗ ΒΟΡΕΙΑ ΖΩΝ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P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.Χ. ΜΕΣΟΓΕΙΟΣ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ΧΑΜΗΛΗ ΓΩΝΙΑ ΑΝΑΧΩΡΗΣΗΣ ΤΩΝ ΣΗΜΑΤΩΝ ΕΙΝΑΙ ΟΥΣΙΩΔ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ΤΑΝ ΕΙΝΑ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2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ΟΙΡΕ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ΔΙΚΑ ΣΤΗΝ ΑΡΧΗ ΚΑΙ ΤΟ ΤΕΛΟΣ ΤΟΥ ΗΛΙΑΚΟΥ ΚΥΚΛ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ΡΑΔΙΟΘΟΡΥΒΟΣ ΑΠΟ ΓΡΑΜΜΕΣ 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V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ΔΕΗ ΣΤΟΥ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ΤΑΝ ΕΙΝΑ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db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ΝΩ ΑΠΟ ΤΟ ΘΕΡΜΙΚΟ ΤΟΥ ΔΕΚΤ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ΟΡΙΖΕΙ ΣΗΜΑΝΤΙΚΑ ΤΗ ΛΗΨΗ ΤΩΝ ΣΗΜΑΤΩ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2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ΚΑΝΟΠΟΙΗΤΙΚΗ ΠΡΟΒΛΕΨΗ ΤΗΣ ΩΡΑΣ ΤΗΣ ΗΜΕΡΑΣ ΚΑΙ ΤΗΣ ΕΠΟΧΗΣ ΤΟΥ ΕΤΟ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ΔΙΑΔΟΣΗ ΠΡΟΣ ΟΡΙΣΜΕΝΗ ΠΕΡΙΟΧΗ ΤΗΣ Γ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ΒΕΒΑΙΩΜΕΝΕΣ  ΡΑΔΙΟΧΩΡΕΣ ΣΤΟΥΣ 50ΜΗΖ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0" y="2362320"/>
          <a:ext cx="70102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70102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ΡΧΗ ΚΑΙ ΠΕΡΑΣ ΗΛ. ΚΥΚΛ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463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ΥΚΛΟ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ΡΧ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ΕΡ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             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υν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76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πτ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9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2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πτ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986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άιο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άιο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996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εκ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200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4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εκ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2008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ρ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13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ΔΕΙΟΔΟΤΗΣΗ ΣΤΟΥΣ 70ΜΗ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ενική άδεια σε όλους του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σε αλλοδαπούς με άδειε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T HAREC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από 15 Μαίου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οζώνη 70200-70250ΜΗΖ σε προσωρινή βάση (μετά συμφωνία του ΓΕΕΘ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eacon SV1FOUR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700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σχύς μέχρι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PE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ΜΟΝΟ με στενό εύρος εκπομπής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κινητοί σταθμοί, όπως και στους 50 ΜΗ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7!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ΡΑΔΙΟΧΩΡΕΣ ΣΤΟΥΣ 7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ΥΡΩΠ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,GW,GU,GJ,GD,GM,GI,E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,OY,TF,LA,JX,JW,OH,OH0,OJ0,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,LX,DL,9A,S5,OE,YO,OK,OM,HA,I,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,T7,1A,3A,EA,EA6,EA8,EA9,ZB,CT,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,SV5,SV9,SV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ΦΡΙΚ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,D4,CT3,T5,ZS,Z2,ZD8,ZD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ΣΙ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B?,ZC4,A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ΟΡ. ΑΜΕΡΙΚ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ΔΙΑΔΟΣΗ ΣΤΟΥΣ 70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εν υποστηρίζεται από ιονοσφαιρ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λλά μόνο από ΤΕΡ στο ηλ. μέγιστο και μ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άθε καλοκαίρ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όνο από τέλη Μαίου μέχρι αρχές Αυγ. κάθε χρόν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άδοση με πολλαπλές αναπηδήσεις (μ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έχρ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4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α 4800χλμ). Πιθανότητα για Β.Αμερική μικρ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υνατότητα μέχρι 8000χλμ με ΤΕΡ στο ηλιακό μέγιστο προ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Ο ΡΑΔΙΟΡΙΖΟΝΤΑΣ ΣΤΟ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M18VA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Η ΑΖΙΜΟΥΘΙΑΚΗ ΚΑΤΑΝΟΜΗ ΤΟΥ ΡΑΔΙΟΘΟΡΥΒΟΥ ΣΤΟ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M18VA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ΔΙΙΣΗΜΕΡΙΝΗ ΔΙΑΔΟΣΗ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(A &amp; E-TE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83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ύο διακριτοί τρόποι διάδοσης παρατηρήθηκαν στον Ευρωαφρικανικό τομέ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απογευματινός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-TEP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έχρι τις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700z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υ διαδίδει ισχυρά και καθαρά σήματα μέχρι του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~70M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βραδινό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-TEP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, μεταξύ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730z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~2200z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ου διαδίδει ασθενικά και έντονα παραμορφωμέν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ήματα, κυρίως πάνω από του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30Mhz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μέχρι του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~430Mhz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όνο στον 21 ηλ. κύκλο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εν παρατηρείται διάδοση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ξύ των δύο παραπάνω τρόπω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Ι ΤΟΜΕΙΣ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-TEP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ΤΗΣ ΓΗΣ ΚΑΙ ΟΙ ΖΕΥΞΕΙΣ ΤΩΝ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44Mhz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457200" y="2986200"/>
          <a:ext cx="4033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86200"/>
                    <a:ext cx="4033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rcRect l="0" t="3150" r="0" b="0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ΑΔΙΟΦΑΡΟΣ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S6D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ΟΥ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144 Mhz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1720z – 5 Nov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5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ΕΩΜΕΤΡΙΑ  ΠΡΟΤΥΠΟΥ ΔΙΑΔΟΣΗΣ ΜΕ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-TEP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ΣΤΟΝ ΕΥΡΩΑΦΡΙΚΑΝΙΚΟ ΤΟΜΕ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ΙΑΔΟΣΗ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ORT-PATH (SP)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ΤΟΥΣ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Mhz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933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ρος όλες τις διευθύνσεις, εκτός πάνω από την Αρκτική ζώ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Όλη τη μέρα, από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~06z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μέχρι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~24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ιό σπάνια περιοχή ο κεντρικός Ειρηνικός Ωκεανό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δύο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5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επτα ανοίγματα στη διάρκεια του 22 ηλ. κύκλο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έγιστη απόσταση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16600Km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ρος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D2 (5F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τέ δεν ακούστηκα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ZL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K1,2,5,7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όλο που υπήρχε καθαρός ορίζοντας προς τις αντίστοιχες κατευθύνσει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5:25:55Z</dcterms:created>
  <dc:creator>Costas</dc:creator>
  <dc:description/>
  <dc:language>en-US</dc:language>
  <cp:lastModifiedBy>Costas</cp:lastModifiedBy>
  <dcterms:modified xsi:type="dcterms:W3CDTF">2010-11-16T08:55:11Z</dcterms:modified>
  <cp:revision>23</cp:revision>
  <dc:subject/>
  <dc:title>ΙΟΝΟΣΦΑΙΡΙΚΗ ΔΙΑΔΟΣΗ ΥΠΕΡΥΨΗΛΩΝ ΣΥΧΝΟΤΗΤΩΝ ΑΠΟ ΤΗΝ ΑΘΗΝΑ ΣΤΗ ΔΙΑΡΚΕΙΑ ΤΩΝ ΤΡΙΩΝ ΤΕΛΕΥΤΑΙΩΝ ΗΛΙΑΚΩΝ ΚΥΚΛΩΝ (1978-2006)</dc:title>
</cp:coreProperties>
</file>