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13.jpeg" ContentType="image/jpeg"/>
  <Override PartName="/ppt/media/image5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png" ContentType="image/png"/>
  <Override PartName="/ppt/media/image1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DF61-D7F1-42AA-8DF9-29C8E16BB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71EF-CAB0-4C9D-8419-C7FFDFAE1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27B3-1A6D-4B20-86D7-820015480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4E8E-967F-45EB-BEFE-35A6BA577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C78E0-3F6E-4BEB-B9A8-75C9EDD97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1C4E8-10B6-4D2A-9D60-3FF93CE59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DE1E5-E23D-42C3-B9EB-879F30104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D4657-9599-4CA3-B840-2DF2A6184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B646E-D023-49B1-AD05-7B47CC1CB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A6463-51AE-4DAD-8BC3-2436461ED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DDED3-6F39-499E-AE62-F8764C321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F4D4-3F9A-4F9E-B01A-EC2839343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3EFAA-1EF3-47AE-BBD5-C61290A33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ED747-821E-4C82-82E6-1698E61AB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53B33-5C3D-4271-87CC-06D849AF5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9A510-2ED8-4B13-9B56-198A3021B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B1951-AC9B-4E9D-B7AE-9B4729963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C643-9B44-4C46-A7C1-95937FC48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1A8A-A0D3-4B84-B543-61914DF67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DDF5-47DD-4386-A8B7-853E75871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71FC-F335-42BA-B6E6-02EF0FB79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63F3-B2D4-472A-9FC8-5BCE1BD55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A156-C998-4959-8E53-F52D07F24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C75A-964B-4CD7-A02D-E8A559244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2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A4714-E0C6-4EC0-8D42-FDE9525AA1FF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20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AEB24-97DD-4421-9A7F-7BBB85EF9CC8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72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6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Impac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Impac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Impact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8960" y="3352320"/>
            <a:ext cx="78483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Helvetica-Bold"/>
              </a:rPr>
              <a:t>  </a:t>
            </a:r>
            <a:r>
              <a:rPr b="1" lang="en-US" sz="3200" spc="-1" strike="noStrike">
                <a:solidFill>
                  <a:srgbClr val="ccffff"/>
                </a:solidFill>
                <a:latin typeface="Helvetica-Bold"/>
              </a:rPr>
              <a:t>A method for decreasing the multipath interference in digital data transmission over wireless radio channels</a:t>
            </a:r>
            <a:endParaRPr b="0" lang="en-US" sz="32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219320" y="5105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Helvetica-Bold"/>
              </a:rPr>
              <a:t>and its implementation on a single chip microcontroller as a wireless data encoder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3" name=""/>
          <p:cNvSpPr/>
          <p:nvPr/>
        </p:nvSpPr>
        <p:spPr>
          <a:xfrm>
            <a:off x="1143000" y="914400"/>
            <a:ext cx="7848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Helvetica-Bold"/>
              </a:rPr>
              <a:t>International Conference on Computer Systems and Technolog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Helvetica-BoldOblique"/>
              </a:rPr>
              <a:t>CompSysTech’ 2005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Guard interval formatio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5638680"/>
            <a:ext cx="79250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ing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t the top of every symbol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us prevent from Inter Symbol Interference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295280" y="2298600"/>
          <a:ext cx="7086600" cy="326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298600"/>
                    <a:ext cx="7086600" cy="3264120"/>
                  </a:xfrm>
                  <a:prstGeom prst="rect">
                    <a:avLst/>
                  </a:prstGeom>
                  <a:ln w="28440">
                    <a:solidFill>
                      <a:srgbClr val="001932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6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ircuit diagram of the OFDM encoder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3" name=""/>
          <p:cNvSpPr/>
          <p:nvPr/>
        </p:nvSpPr>
        <p:spPr>
          <a:xfrm>
            <a:off x="1542960" y="22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Graphic1_curbes" descr=""/>
          <p:cNvPicPr/>
          <p:nvPr/>
        </p:nvPicPr>
        <p:blipFill>
          <a:blip r:embed="rId1"/>
          <a:stretch/>
        </p:blipFill>
        <p:spPr>
          <a:xfrm>
            <a:off x="1143000" y="2057400"/>
            <a:ext cx="7848720" cy="3011400"/>
          </a:xfrm>
          <a:prstGeom prst="rect">
            <a:avLst/>
          </a:prstGeom>
          <a:ln w="9360">
            <a:solidFill>
              <a:srgbClr val="001932"/>
            </a:solidFill>
            <a:miter/>
          </a:ln>
        </p:spPr>
      </p:pic>
      <p:sp>
        <p:nvSpPr>
          <p:cNvPr id="165" name=""/>
          <p:cNvSpPr/>
          <p:nvPr/>
        </p:nvSpPr>
        <p:spPr>
          <a:xfrm>
            <a:off x="942480" y="5105520"/>
            <a:ext cx="8220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okU"/>
              </a:rPr>
              <a:t>Low cost, single chip desig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okU"/>
              </a:rPr>
              <a:t>Implemented DAC with low cost R/2R matri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okU"/>
              </a:rPr>
              <a:t>Synchronous digital data inp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okU"/>
              </a:rPr>
              <a:t>Analogue base-band o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Block diagram of the program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7" name=""/>
          <p:cNvSpPr/>
          <p:nvPr/>
        </p:nvSpPr>
        <p:spPr>
          <a:xfrm>
            <a:off x="1514520" y="21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514520" y="21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143000" y="2666880"/>
          <a:ext cx="7696080" cy="340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666880"/>
                    <a:ext cx="7696080" cy="3409920"/>
                  </a:xfrm>
                  <a:prstGeom prst="rect">
                    <a:avLst/>
                  </a:prstGeom>
                  <a:ln w="28440">
                    <a:solidFill>
                      <a:srgbClr val="001932"/>
                    </a:solidFill>
                    <a:miter/>
                  </a:ln>
                  <a:effectLst>
                    <a:outerShdw dist="143570" dir="2700000" blurRad="0" rotWithShape="0">
                      <a:srgbClr val="001932"/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966240" y="2438280"/>
            <a:ext cx="6378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okU"/>
              </a:rPr>
              <a:t>Depends o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okU"/>
              </a:rPr>
              <a:t>Physical channel characterist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okU"/>
              </a:rPr>
              <a:t>Regul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okU"/>
              </a:rPr>
              <a:t>System performance requir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System performance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143000" y="2286000"/>
            <a:ext cx="7620120" cy="4145040"/>
          </a:xfrm>
          <a:prstGeom prst="rect">
            <a:avLst/>
          </a:prstGeom>
          <a:ln w="28440">
            <a:solidFill>
              <a:srgbClr val="00193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onclusio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19320" y="2044440"/>
            <a:ext cx="7772400" cy="45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rove performance for general multipath environments in radio transmission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icable to low-speed application like 1200 bps Packet Radio, Digital Radio Broadcasting – DRM, etc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OFDM waveform has the same E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/N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performance as single carrier DPSK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tter out-of-band power performance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re is no redundancy in the transmitted data. Frequency  efficiency is 1bit/s/Hz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Problems</a:t>
            </a:r>
            <a:r>
              <a:rPr b="0" lang="en-GB" sz="4400" spc="-1" strike="noStrike" u="sng">
                <a:solidFill>
                  <a:srgbClr val="6666ff"/>
                </a:solidFill>
                <a:uFillTx/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25146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l oscillator phase shift (phase noise) cause performance degradation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ppler effect (carriers shift) cause performance degradation, especially in high speed and mobile application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FDM is sensitive to clipping distortion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Future work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19320" y="2425320"/>
            <a:ext cx="7772400" cy="38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rrier offset correction method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ppler correction methods in the mobile environment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-User carrier offset correction methods when using OFDM in TDMA systems (Time-Division-Multiple-Access)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thods to increase the noise performance using redundancy codes with good autocorrelation function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663640" y="3063240"/>
            <a:ext cx="4013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okU"/>
              </a:rPr>
              <a:t>Thank you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okU"/>
              </a:rPr>
              <a:t>Any questions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images" descr=""/>
          <p:cNvPicPr/>
          <p:nvPr/>
        </p:nvPicPr>
        <p:blipFill>
          <a:blip r:embed="rId1"/>
          <a:stretch/>
        </p:blipFill>
        <p:spPr>
          <a:xfrm>
            <a:off x="4191120" y="3886200"/>
            <a:ext cx="990360" cy="990720"/>
          </a:xfrm>
          <a:prstGeom prst="rect">
            <a:avLst/>
          </a:prstGeom>
          <a:ln w="9360">
            <a:solidFill>
              <a:srgbClr val="00193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ommon problems with digital Radio Communication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18960" y="2044800"/>
            <a:ext cx="792468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rference from other radio communication device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rect Sequence Spread Spectrum (DSSS) solve this problem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rference from multipath signal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plementary Code Keying (CCK) solve this problem (single carrier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rthogonal Frequency Division Multiplex (OFDM) solve this problem (multi carrier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Multi-Path Propagation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(Power delay profile)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7" name=""/>
          <p:cNvSpPr/>
          <p:nvPr/>
        </p:nvSpPr>
        <p:spPr>
          <a:xfrm>
            <a:off x="1066680" y="5943600"/>
            <a:ext cx="8077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99ff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ath destroys the energy of received data and causes an ISI (Inter-Symbol-Interferenc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7543800" cy="3792600"/>
          </a:xfrm>
          <a:prstGeom prst="rect">
            <a:avLst/>
          </a:prstGeom>
          <a:ln w="9360">
            <a:solidFill>
              <a:srgbClr val="00193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OFDM modulator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3000" y="56383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FDM uses multiple carriers (in our case we use 128) to modulate every bit coming from S/P converter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very carrier is orthogonal to each other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981080" y="1981080"/>
            <a:ext cx="5791320" cy="3670560"/>
          </a:xfrm>
          <a:prstGeom prst="rect">
            <a:avLst/>
          </a:prstGeom>
          <a:ln w="28440">
            <a:solidFill>
              <a:srgbClr val="00193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Spectral efficiency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5638680"/>
            <a:ext cx="79250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99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fferent symbols are transmitted over differ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bcarri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ectrum overlap, but signals are orthog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066680" y="2033640"/>
            <a:ext cx="7925040" cy="3529080"/>
          </a:xfrm>
          <a:prstGeom prst="rect">
            <a:avLst/>
          </a:prstGeom>
          <a:ln w="28440">
            <a:solidFill>
              <a:srgbClr val="00193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Orthogonal code generatio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579096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000" spc="-1" strike="noStrike">
                <a:solidFill>
                  <a:srgbClr val="ffffff"/>
                </a:solidFill>
                <a:latin typeface="TimokU"/>
                <a:ea typeface="Times New Roman"/>
              </a:rPr>
              <a:t>A square matrix A is called an orthogonal matrix if it is equal to the inverse of its transpose, i.e. if </a:t>
            </a:r>
            <a:r>
              <a:rPr b="1" i="1" lang="en" sz="2000" spc="-1" strike="noStrike">
                <a:solidFill>
                  <a:srgbClr val="ffffff"/>
                </a:solidFill>
                <a:latin typeface="TimokU"/>
                <a:ea typeface="Times New Roman"/>
              </a:rPr>
              <a:t>A</a:t>
            </a:r>
            <a:r>
              <a:rPr b="1" lang="en" sz="2000" spc="-1" strike="noStrike">
                <a:solidFill>
                  <a:srgbClr val="ffffff"/>
                </a:solidFill>
                <a:latin typeface="TimokU"/>
                <a:ea typeface="Times New Roman"/>
              </a:rPr>
              <a:t>=(</a:t>
            </a:r>
            <a:r>
              <a:rPr b="1" i="1" lang="en" sz="2000" spc="-1" strike="noStrike">
                <a:solidFill>
                  <a:srgbClr val="ffffff"/>
                </a:solidFill>
                <a:latin typeface="TimokU"/>
                <a:ea typeface="Times New Roman"/>
              </a:rPr>
              <a:t>A</a:t>
            </a:r>
            <a:r>
              <a:rPr b="1" i="1" lang="en" sz="2000" spc="-1" strike="noStrike" baseline="30000">
                <a:solidFill>
                  <a:srgbClr val="ffffff"/>
                </a:solidFill>
                <a:latin typeface="TimokU"/>
                <a:ea typeface="Times New Roman"/>
              </a:rPr>
              <a:t>T</a:t>
            </a:r>
            <a:r>
              <a:rPr b="1" lang="en" sz="2000" spc="-1" strike="noStrike">
                <a:solidFill>
                  <a:srgbClr val="ffffff"/>
                </a:solidFill>
                <a:latin typeface="TimokU"/>
                <a:ea typeface="Times New Roman"/>
              </a:rPr>
              <a:t>)</a:t>
            </a:r>
            <a:r>
              <a:rPr b="1" lang="en" sz="2000" spc="-1" strike="noStrike" baseline="30000">
                <a:solidFill>
                  <a:srgbClr val="ffffff"/>
                </a:solidFill>
                <a:latin typeface="TimokU"/>
                <a:ea typeface="Times New Roman"/>
              </a:rPr>
              <a:t>−1</a:t>
            </a:r>
            <a:r>
              <a:rPr b="1" lang="en-GB" sz="2000" spc="-1" strike="noStrike">
                <a:solidFill>
                  <a:srgbClr val="ffffff"/>
                </a:solidFill>
                <a:latin typeface="TimokU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okU"/>
              </a:rPr>
              <a:t>Every row of the matrix contains one orthogonal code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47" name=""/>
          <p:cNvSpPr/>
          <p:nvPr/>
        </p:nvSpPr>
        <p:spPr>
          <a:xfrm>
            <a:off x="291924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80211b3" descr=""/>
          <p:cNvPicPr/>
          <p:nvPr/>
        </p:nvPicPr>
        <p:blipFill>
          <a:blip r:embed="rId1"/>
          <a:stretch/>
        </p:blipFill>
        <p:spPr>
          <a:xfrm>
            <a:off x="1066680" y="2003400"/>
            <a:ext cx="7925040" cy="3768840"/>
          </a:xfrm>
          <a:prstGeom prst="rect">
            <a:avLst/>
          </a:prstGeom>
          <a:ln w="19080">
            <a:solidFill>
              <a:srgbClr val="00193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Out-of-band component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5562720"/>
            <a:ext cx="7848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99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tter out-of-band power perform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mple band-pass filters are applic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66680" y="2062080"/>
            <a:ext cx="3505320" cy="3308400"/>
          </a:xfrm>
          <a:prstGeom prst="rect">
            <a:avLst/>
          </a:prstGeom>
          <a:ln w="9360">
            <a:solidFill>
              <a:srgbClr val="001932"/>
            </a:solidFill>
            <a:miter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4648320" y="2057400"/>
            <a:ext cx="4419360" cy="3308400"/>
          </a:xfrm>
          <a:prstGeom prst="rect">
            <a:avLst/>
          </a:prstGeom>
          <a:ln w="9360">
            <a:solidFill>
              <a:srgbClr val="00193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Receiver diagram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0360" y="5410080"/>
            <a:ext cx="8001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ceived data is combined (XOR) with every orthogonal code for the corresponding sub-carrier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duct code is integrated in the symbol time interva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parallel to serial converter is used to rebuild serial data stream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133720" y="1981080"/>
            <a:ext cx="5638680" cy="3446640"/>
          </a:xfrm>
          <a:prstGeom prst="rect">
            <a:avLst/>
          </a:prstGeom>
          <a:ln w="28440">
            <a:solidFill>
              <a:srgbClr val="00193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Guard interval protectio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447920" y="2057400"/>
            <a:ext cx="5562360" cy="4597560"/>
          </a:xfrm>
          <a:prstGeom prst="rect">
            <a:avLst/>
          </a:prstGeom>
          <a:ln w="28440">
            <a:solidFill>
              <a:srgbClr val="00193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5T10:52:19Z</dcterms:created>
  <dc:creator>Boris Y. Ribov, Grisha Spasov</dc:creator>
  <dc:description/>
  <dc:language>en-US</dc:language>
  <cp:lastModifiedBy>Boris Ribov</cp:lastModifiedBy>
  <dcterms:modified xsi:type="dcterms:W3CDTF">2005-06-12T15:25:47Z</dcterms:modified>
  <cp:revision>72</cp:revision>
  <dc:subject/>
  <dc:title>Complementary Code Keying  with PIC based microcontrollers for The Wireless Radio Communications</dc:title>
</cp:coreProperties>
</file>