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368-135F-4164-BD2F-E607C797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floods, hurricanes, fires, tornado's, power outages, snow and ice storms, earthquakes, sear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repeaters directly in nws. Tullahoma, Lewisburg, Columbia, Lawrenceburg, all have skywarn grou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available with answers to study.  Question pools have x-x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de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gaining operators …internet has been killing memb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ncy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fe refers to us as radio g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ixes assigned to the us, then broke up into different regions, suffix alphab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watts, 550ft, auto patch, linked to other repeaters, remote to others, can link to other bands, digital voice 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3B5-BD53-4047-ADC6-06AD03CF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FAD-FD3C-4896-8D24-0C0C6F1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F8D-0CEA-4F61-8F7B-9FEC1017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669-47B8-4208-821D-7BCDD3E7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5B22-EA09-4A42-BA28-51A76F2A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8692-35A2-4792-BAF1-0CB2BE3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B5B-D3FF-47EE-A3AF-4D3DCE7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7B3-C387-4350-A63F-3D29FBBE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05CD-8ACD-4A60-B31E-25414A1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FBCE-4EA5-4DFC-A65E-643E36C9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CA0-2485-4228-958C-21439B89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05B-1193-45AF-83C1-3D95EF16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B41-540E-4A22-B15E-716AEEF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A2C-ECC1-424C-973B-C399E57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788E-22ED-40BB-BCD6-51CC3D1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164C-3242-49D5-B112-42640A94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4DE5-615B-4E37-A77D-38BF3A2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290-5089-409D-994F-5169010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8D6-1931-4A86-988E-A5F77F0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C54-3F4C-4EAC-BC34-B1D8E63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D0D-250D-4231-B285-C8E7492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6A0-545B-4F0F-ABF9-CA2C933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6B9-05FC-4285-8C92-0D0A570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26E-B143-4CCE-A1CD-1C1563D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13C-3D6C-4597-A23B-783B9A92E5A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B40-9CAE-4A72-B783-EBF5939C1E5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rrl.org/" TargetMode="External"/><Relationship Id="rId3" Type="http://schemas.openxmlformats.org/officeDocument/2006/relationships/hyperlink" Target="http://www.qsl.net/w4ggm" TargetMode="External"/><Relationship Id="rId4" Type="http://schemas.openxmlformats.org/officeDocument/2006/relationships/hyperlink" Target="http://www.ares.org/" TargetMode="External"/><Relationship Id="rId5" Type="http://schemas.openxmlformats.org/officeDocument/2006/relationships/hyperlink" Target="http://www.skywarn.com/" TargetMode="External"/><Relationship Id="rId6" Type="http://schemas.openxmlformats.org/officeDocument/2006/relationships/hyperlink" Target="mailto:jlfarms@tnweb.com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mateur Rad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hn Cole       KA8M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ergency Communica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ateur Radio Emergency Services (A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t up and operate communication networks locally for governmental and emergency officials in times of disas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reements with F.E.M.A., Red Cross, National Communication System, Salvation Ar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Aresinc" descr=""/>
          <p:cNvPicPr/>
          <p:nvPr/>
        </p:nvPicPr>
        <p:blipFill>
          <a:blip r:embed="rId2"/>
          <a:stretch/>
        </p:blipFill>
        <p:spPr>
          <a:xfrm>
            <a:off x="7848720" y="2139840"/>
            <a:ext cx="838080" cy="814320"/>
          </a:xfrm>
          <a:prstGeom prst="rect">
            <a:avLst/>
          </a:prstGeom>
          <a:ln w="0">
            <a:noFill/>
          </a:ln>
        </p:spPr>
      </p:pic>
    </p:spTree>
  </p:cSld>
  <p:transition spd="med" advTm="34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kywarn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Volunteer hams that are trained and organized in spotter networ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OC at count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port directly to NWS by radio in Nashvil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 eyes of the National Weather Servic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skywarn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089000" cy="141768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cense Struc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hnician Cla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5-question multiple-choice examin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eneral Cla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5 WPM Morse code t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5-question multiple-choice examin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tra Cla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50-question multiple-choice examin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license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4191120" cy="49993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ring 2000 License Restruc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om 5 to 3 License Clas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opped Novice and Advanced Cl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opped the 20 wpm code test for Ext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Class code requirement from 13 to 5 wp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4729320"/>
            <a:ext cx="2666880" cy="164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3434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429000" y="571500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Times New Roman"/>
              </a:rPr>
              <a:t>20 wpm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800" y="57150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Times New Roman"/>
              </a:rPr>
              <a:t>5wpm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9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olunteer Examin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984 The FCC stopped giving exams and turned the duty over to VE’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E’s follow a strict process and send all materials to the VE Coordina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FCC still processes and issues the actual Radio Licen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ve" descr=""/>
          <p:cNvPicPr/>
          <p:nvPr/>
        </p:nvPicPr>
        <p:blipFill>
          <a:blip r:embed="rId2"/>
          <a:stretch/>
        </p:blipFill>
        <p:spPr>
          <a:xfrm>
            <a:off x="4495680" y="2290680"/>
            <a:ext cx="4410360" cy="258624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sting Proc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study materi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ternet (free info) or Radio Sha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act a local Ham or search the internet for testing loc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sting at Lewisburg Hospital 3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unday each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on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ke with you $10.00, pen or pencil, 2 forms of 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bs00508_" descr=""/>
          <p:cNvPicPr/>
          <p:nvPr/>
        </p:nvPicPr>
        <p:blipFill>
          <a:blip r:embed="rId2"/>
          <a:stretch/>
        </p:blipFill>
        <p:spPr>
          <a:xfrm>
            <a:off x="4114800" y="533412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bs00580_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670120" cy="2249640"/>
          </a:xfrm>
          <a:prstGeom prst="rect">
            <a:avLst/>
          </a:prstGeom>
          <a:ln w="0">
            <a:noFill/>
          </a:ln>
        </p:spPr>
      </p:pic>
      <p:pic>
        <p:nvPicPr>
          <p:cNvPr id="149" name="bd07295_" descr=""/>
          <p:cNvPicPr/>
          <p:nvPr/>
        </p:nvPicPr>
        <p:blipFill>
          <a:blip r:embed="rId4"/>
          <a:stretch/>
        </p:blipFill>
        <p:spPr>
          <a:xfrm>
            <a:off x="1219320" y="5819760"/>
            <a:ext cx="1361880" cy="1038240"/>
          </a:xfrm>
          <a:prstGeom prst="rect">
            <a:avLst/>
          </a:prstGeom>
          <a:ln w="0">
            <a:noFill/>
          </a:ln>
        </p:spPr>
      </p:pic>
      <p:pic>
        <p:nvPicPr>
          <p:cNvPr id="150" name="j0295069" descr=""/>
          <p:cNvPicPr/>
          <p:nvPr/>
        </p:nvPicPr>
        <p:blipFill>
          <a:blip r:embed="rId5"/>
          <a:stretch/>
        </p:blipFill>
        <p:spPr>
          <a:xfrm>
            <a:off x="7770960" y="4800600"/>
            <a:ext cx="1373040" cy="9874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eld D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ual contest to practice and test emergency procedur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ccurs last weekend in Ju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tain the most contacts throughout North America at a remote lo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st use emergency po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Field%20day1" descr=""/>
          <p:cNvPicPr/>
          <p:nvPr/>
        </p:nvPicPr>
        <p:blipFill>
          <a:blip r:embed="rId2"/>
          <a:srcRect l="0" t="4353" r="0" b="0"/>
          <a:stretch/>
        </p:blipFill>
        <p:spPr>
          <a:xfrm>
            <a:off x="914400" y="4800600"/>
            <a:ext cx="1338120" cy="167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909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1981 S.A.R.A. W8QQ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2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and for more inform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ateur Radio Relay League 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arrl.or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ury Amateur Radio Club 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qsl.net/w4gg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tional A.R.E.S. 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www.ares.or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tional Skywarn 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www.skywarn.c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hn Cole 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jlfarms@tnweb.c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2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mateur Radi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noncommercial communic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rimarily for emergency communic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hobby where individuals learn about and enjoy communicating by ra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1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01 Guglielmo Marconi sends a wireless signal across the Atlant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09  The first radio clubs are form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14-18  The Amateur Radio Relay League is organized. The number of amateurs increases from 1200 to over 60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91-1998 From 500,000 to over 710,000 ha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75,000 tod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 advTm="3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Many Different Modes of Communica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i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ngle Side Ban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M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W - Continuous Wave (Morse Cod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gital packet (compute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8280" y="3123720"/>
            <a:ext cx="402876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TTY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Radio Teletyp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levi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22480" y="63453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O-40 Launched 11/16/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2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tion Cal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ed by the FCC corresponding to the geographic region of the licensee's mailing addre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ntifies the radio s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KF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NP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876920"/>
            <a:ext cx="685800" cy="761760"/>
          </a:xfrm>
          <a:prstGeom prst="upArrow">
            <a:avLst>
              <a:gd name="adj1" fmla="val 50000"/>
              <a:gd name="adj2" fmla="val 27769"/>
            </a:avLst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9625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5520" y="5486400"/>
            <a:ext cx="23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Reg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6320" y="4495680"/>
            <a:ext cx="23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betic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gned by FC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640" y="4495680"/>
            <a:ext cx="163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Assigned to</a:t>
            </a:r>
            <a:br>
              <a:rPr sz="2400"/>
            </a:b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2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SL C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cludes date, time, call, and station lo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change with other stations throughout the world to confirm conta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k8efx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5067360" cy="3111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eat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eive and retransmit sign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nge varies from local to internat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wisburg repeaters: 146.625, 444.075, 442.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Tower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Ridge0010" descr=""/>
          <p:cNvPicPr/>
          <p:nvPr/>
        </p:nvPicPr>
        <p:blipFill>
          <a:blip r:embed="rId3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57600" y="652140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46.670 AF4TZ Nashvil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tiv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X - contacting stations around the wor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esting - making as many contacts as possible in a given time peri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ing with children through schools and scouting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ous club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RP (low power operating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62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8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traterrestrial Communica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E Moon bou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teor Scat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tellite communic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national Space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52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04:06:06Z</dcterms:created>
  <dc:creator>John Cole</dc:creator>
  <dc:description/>
  <dc:language>en-US</dc:language>
  <cp:lastModifiedBy>John Cole</cp:lastModifiedBy>
  <dcterms:modified xsi:type="dcterms:W3CDTF">2001-02-17T18:19:14Z</dcterms:modified>
  <cp:revision>50</cp:revision>
  <dc:subject/>
  <dc:title>Amateur Radio: A Brief Overview </dc:title>
</cp:coreProperties>
</file>