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.png" ContentType="image/png"/>
  <Override PartName="/ppt/media/image4.pct" ContentType="image/x-pict"/>
  <Override PartName="/ppt/media/image12.png" ContentType="image/png"/>
  <Override PartName="/ppt/media/image6.png" ContentType="image/png"/>
  <Override PartName="/ppt/media/image11.png" ContentType="image/png"/>
  <Override PartName="/ppt/media/image7.pct" ContentType="image/x-pict"/>
  <Override PartName="/ppt/media/image19.pct" ContentType="image/x-pict"/>
  <Override PartName="/ppt/media/image8.png" ContentType="image/png"/>
  <Override PartName="/ppt/media/image13.png" ContentType="image/png"/>
  <Override PartName="/ppt/media/image22.pct" ContentType="image/x-pict"/>
  <Override PartName="/ppt/media/image9.png" ContentType="image/png"/>
  <Override PartName="/ppt/media/image30.png" ContentType="image/png"/>
  <Override PartName="/ppt/media/image16.pct" ContentType="image/x-pict"/>
  <Override PartName="/ppt/media/image28.png" ContentType="image/png"/>
  <Override PartName="/ppt/media/image31.pct" ContentType="image/x-pict"/>
  <Override PartName="/ppt/media/image10.png" ContentType="image/png"/>
  <Override PartName="/ppt/media/image5.png" ContentType="image/png"/>
  <Override PartName="/ppt/media/image2.pct" ContentType="image/x-pict"/>
  <Override PartName="/ppt/media/image1.png" ContentType="image/png"/>
  <Override PartName="/ppt/media/image14.png" ContentType="image/png"/>
  <Override PartName="/ppt/media/image17.png" ContentType="image/png"/>
  <Override PartName="/ppt/media/image24.pct" ContentType="image/x-pict"/>
  <Override PartName="/ppt/media/image27.png" ContentType="image/png"/>
  <Override PartName="/ppt/media/image15.pct" ContentType="image/x-pict"/>
  <Override PartName="/ppt/media/image18.png" ContentType="image/png"/>
  <Override PartName="/ppt/media/image20.png" ContentType="image/png"/>
  <Override PartName="/ppt/media/image29.png" ContentType="image/png"/>
  <Override PartName="/ppt/media/image21.jpeg" ContentType="image/jpeg"/>
  <Override PartName="/ppt/media/image26.png" ContentType="image/png"/>
  <Override PartName="/ppt/media/image23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42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041120" y="858600"/>
            <a:ext cx="455940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82400" y="936612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8626-C799-45AC-A215-B886A7790F2B}" type="slidenum">
              <a:rPr b="0" i="1" lang="de-CH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041480" y="858960"/>
            <a:ext cx="4559400" cy="34160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85600" y="4645080"/>
            <a:ext cx="48704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90040" y="152280"/>
            <a:ext cx="7791480" cy="51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5b84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35040" y="1219320"/>
            <a:ext cx="8280360" cy="75960"/>
            <a:chOff x="635040" y="1219320"/>
            <a:chExt cx="8280360" cy="75960"/>
          </a:xfrm>
        </p:grpSpPr>
        <p:sp>
          <p:nvSpPr>
            <p:cNvPr id="2" name=""/>
            <p:cNvSpPr/>
            <p:nvPr/>
          </p:nvSpPr>
          <p:spPr>
            <a:xfrm>
              <a:off x="635040" y="1295280"/>
              <a:ext cx="828036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59520" y="1219320"/>
              <a:ext cx="8230680" cy="0"/>
            </a:xfrm>
            <a:prstGeom prst="line">
              <a:avLst/>
            </a:prstGeom>
            <a:ln w="7632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pct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38080" y="1676520"/>
            <a:ext cx="7467840" cy="502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6019920"/>
            <a:ext cx="4953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7960" y="154080"/>
            <a:ext cx="548316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 S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3320" y="914400"/>
            <a:ext cx="8862840" cy="0"/>
          </a:xfrm>
          <a:prstGeom prst="line">
            <a:avLst/>
          </a:prstGeom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30240" y="990720"/>
            <a:ext cx="5483520" cy="51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cc66"/>
                </a:solidFill>
                <a:latin typeface="Times New Roman"/>
              </a:rPr>
              <a:t>Mobilstation / Track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058080" y="4191120"/>
            <a:ext cx="2133000" cy="2286000"/>
            <a:chOff x="6058080" y="4191120"/>
            <a:chExt cx="2133000" cy="2286000"/>
          </a:xfrm>
        </p:grpSpPr>
        <p:sp>
          <p:nvSpPr>
            <p:cNvPr id="120" name=""/>
            <p:cNvSpPr/>
            <p:nvPr/>
          </p:nvSpPr>
          <p:spPr>
            <a:xfrm>
              <a:off x="6058080" y="4191120"/>
              <a:ext cx="1828440" cy="228600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86000"/>
                <a:gd name="textAreaBottom" fmla="*/ 2197080 h 2286000"/>
              </a:gdLst>
              <a:ahLst/>
              <a:rect l="textAreaLeft" t="textAreaTop" r="textAreaRight" b="textAreaBottom"/>
              <a:pathLst>
                <a:path w="21600" h="27004">
                  <a:moveTo>
                    <a:pt x="3600" y="0"/>
                  </a:moveTo>
                  <a:arcTo wR="3600" hR="3600" stAng="16200000" swAng="-5400000"/>
                  <a:lnTo>
                    <a:pt x="0" y="23404"/>
                  </a:lnTo>
                  <a:arcTo wR="3600" hR="3600" stAng="10800000" swAng="-5400000"/>
                  <a:lnTo>
                    <a:pt x="18000" y="270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6362640" y="4343400"/>
              <a:ext cx="116784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134040" y="5943600"/>
              <a:ext cx="20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ranscei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886200" y="5562720"/>
            <a:ext cx="1447920" cy="914400"/>
            <a:chOff x="3886200" y="5562720"/>
            <a:chExt cx="1447920" cy="914400"/>
          </a:xfrm>
        </p:grpSpPr>
        <p:sp>
          <p:nvSpPr>
            <p:cNvPr id="124" name=""/>
            <p:cNvSpPr/>
            <p:nvPr/>
          </p:nvSpPr>
          <p:spPr>
            <a:xfrm>
              <a:off x="3886200" y="5562720"/>
              <a:ext cx="1447920" cy="9144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1120" y="5791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N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523880" y="5562720"/>
            <a:ext cx="1447920" cy="914400"/>
            <a:chOff x="1523880" y="5562720"/>
            <a:chExt cx="1447920" cy="914400"/>
          </a:xfrm>
        </p:grpSpPr>
        <p:sp>
          <p:nvSpPr>
            <p:cNvPr id="127" name=""/>
            <p:cNvSpPr/>
            <p:nvPr/>
          </p:nvSpPr>
          <p:spPr>
            <a:xfrm>
              <a:off x="1523880" y="5562720"/>
              <a:ext cx="1447920" cy="9144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28800" y="5791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P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943600" y="4191120"/>
            <a:ext cx="2057400" cy="2286000"/>
            <a:chOff x="5943600" y="4191120"/>
            <a:chExt cx="2057400" cy="2286000"/>
          </a:xfrm>
        </p:grpSpPr>
        <p:sp>
          <p:nvSpPr>
            <p:cNvPr id="130" name=""/>
            <p:cNvSpPr/>
            <p:nvPr/>
          </p:nvSpPr>
          <p:spPr>
            <a:xfrm>
              <a:off x="6058080" y="4191120"/>
              <a:ext cx="1828800" cy="228600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2286000"/>
                <a:gd name="textAreaBottom" fmla="*/ 219672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3600" y="0"/>
                  </a:moveTo>
                  <a:arcTo wR="3600" hR="3600" stAng="16200000" swAng="-5400000"/>
                  <a:lnTo>
                    <a:pt x="0" y="23399"/>
                  </a:lnTo>
                  <a:arcTo wR="3600" hR="3600" stAng="10800000" swAng="-5400000"/>
                  <a:lnTo>
                    <a:pt x="18000" y="269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6388200" y="4203720"/>
              <a:ext cx="116820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943600" y="56386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P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ranscei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8080" y="1676520"/>
            <a:ext cx="7467840" cy="502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6019920"/>
            <a:ext cx="4953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7960" y="154080"/>
            <a:ext cx="548316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 S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3320" y="914400"/>
            <a:ext cx="8862840" cy="0"/>
          </a:xfrm>
          <a:prstGeom prst="line">
            <a:avLst/>
          </a:prstGeom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30240" y="990720"/>
            <a:ext cx="5483520" cy="51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cc66"/>
                </a:solidFill>
                <a:latin typeface="Times New Roman"/>
              </a:rPr>
              <a:t>Wetterstation / Telemetr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019920" y="4191120"/>
            <a:ext cx="2133000" cy="2286000"/>
            <a:chOff x="6019920" y="4191120"/>
            <a:chExt cx="2133000" cy="2286000"/>
          </a:xfrm>
        </p:grpSpPr>
        <p:sp>
          <p:nvSpPr>
            <p:cNvPr id="139" name=""/>
            <p:cNvSpPr/>
            <p:nvPr/>
          </p:nvSpPr>
          <p:spPr>
            <a:xfrm>
              <a:off x="6019920" y="4191120"/>
              <a:ext cx="1828440" cy="228600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86000"/>
                <a:gd name="textAreaBottom" fmla="*/ 2197080 h 2286000"/>
              </a:gdLst>
              <a:ahLst/>
              <a:rect l="textAreaLeft" t="textAreaTop" r="textAreaRight" b="textAreaBottom"/>
              <a:pathLst>
                <a:path w="21600" h="27004">
                  <a:moveTo>
                    <a:pt x="3600" y="0"/>
                  </a:moveTo>
                  <a:arcTo wR="3600" hR="3600" stAng="16200000" swAng="-5400000"/>
                  <a:lnTo>
                    <a:pt x="0" y="23404"/>
                  </a:lnTo>
                  <a:arcTo wR="3600" hR="3600" stAng="10800000" swAng="-5400000"/>
                  <a:lnTo>
                    <a:pt x="18000" y="270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6324480" y="4343400"/>
              <a:ext cx="116784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6095880" y="5943600"/>
              <a:ext cx="20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ranscei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886200" y="5562720"/>
            <a:ext cx="1447920" cy="914400"/>
            <a:chOff x="3886200" y="5562720"/>
            <a:chExt cx="1447920" cy="914400"/>
          </a:xfrm>
        </p:grpSpPr>
        <p:sp>
          <p:nvSpPr>
            <p:cNvPr id="143" name=""/>
            <p:cNvSpPr/>
            <p:nvPr/>
          </p:nvSpPr>
          <p:spPr>
            <a:xfrm>
              <a:off x="3886200" y="5562720"/>
              <a:ext cx="1447920" cy="9144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91120" y="5791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N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095560" y="2514600"/>
            <a:ext cx="5371920" cy="914400"/>
            <a:chOff x="2095560" y="2514600"/>
            <a:chExt cx="5371920" cy="914400"/>
          </a:xfrm>
        </p:grpSpPr>
        <p:sp>
          <p:nvSpPr>
            <p:cNvPr id="146" name=""/>
            <p:cNvSpPr/>
            <p:nvPr/>
          </p:nvSpPr>
          <p:spPr>
            <a:xfrm>
              <a:off x="2095560" y="3048120"/>
              <a:ext cx="4952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5943600" y="2514600"/>
              <a:ext cx="1523880" cy="914400"/>
              <a:chOff x="5943600" y="2514600"/>
              <a:chExt cx="1523880" cy="914400"/>
            </a:xfrm>
          </p:grpSpPr>
          <p:sp>
            <p:nvSpPr>
              <p:cNvPr id="148" name=""/>
              <p:cNvSpPr/>
              <p:nvPr/>
            </p:nvSpPr>
            <p:spPr>
              <a:xfrm>
                <a:off x="5943600" y="2514600"/>
                <a:ext cx="144792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943600" y="2560680"/>
                <a:ext cx="1523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icro-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troll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2247840" y="2514600"/>
            <a:ext cx="3009960" cy="914400"/>
            <a:chOff x="2247840" y="2514600"/>
            <a:chExt cx="3009960" cy="914400"/>
          </a:xfrm>
        </p:grpSpPr>
        <p:sp>
          <p:nvSpPr>
            <p:cNvPr id="151" name=""/>
            <p:cNvSpPr/>
            <p:nvPr/>
          </p:nvSpPr>
          <p:spPr>
            <a:xfrm>
              <a:off x="2247840" y="3048120"/>
              <a:ext cx="2324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809880" y="2514600"/>
              <a:ext cx="1447920" cy="914400"/>
              <a:chOff x="3809880" y="2514600"/>
              <a:chExt cx="1447920" cy="914400"/>
            </a:xfrm>
          </p:grpSpPr>
          <p:sp>
            <p:nvSpPr>
              <p:cNvPr id="153" name=""/>
              <p:cNvSpPr/>
              <p:nvPr/>
            </p:nvSpPr>
            <p:spPr>
              <a:xfrm>
                <a:off x="3809880" y="2514600"/>
                <a:ext cx="144792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886200" y="2560680"/>
                <a:ext cx="1295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oppl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eil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1600200" y="2514600"/>
            <a:ext cx="1447920" cy="2438280"/>
            <a:chOff x="1600200" y="2514600"/>
            <a:chExt cx="1447920" cy="2438280"/>
          </a:xfrm>
        </p:grpSpPr>
        <p:sp>
          <p:nvSpPr>
            <p:cNvPr id="156" name=""/>
            <p:cNvSpPr/>
            <p:nvPr/>
          </p:nvSpPr>
          <p:spPr>
            <a:xfrm>
              <a:off x="2286000" y="312408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1600200" y="2514600"/>
              <a:ext cx="1447920" cy="914400"/>
              <a:chOff x="1600200" y="2514600"/>
              <a:chExt cx="1447920" cy="914400"/>
            </a:xfrm>
          </p:grpSpPr>
          <p:sp>
            <p:nvSpPr>
              <p:cNvPr id="158" name=""/>
              <p:cNvSpPr/>
              <p:nvPr/>
            </p:nvSpPr>
            <p:spPr>
              <a:xfrm>
                <a:off x="1600200" y="2514600"/>
                <a:ext cx="144792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676520" y="2560680"/>
                <a:ext cx="1295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etter-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atio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1295280" y="4191120"/>
            <a:ext cx="1828800" cy="2304000"/>
            <a:chOff x="1295280" y="4191120"/>
            <a:chExt cx="1828800" cy="2304000"/>
          </a:xfrm>
        </p:grpSpPr>
        <p:sp>
          <p:nvSpPr>
            <p:cNvPr id="161" name=""/>
            <p:cNvSpPr/>
            <p:nvPr/>
          </p:nvSpPr>
          <p:spPr>
            <a:xfrm>
              <a:off x="1295280" y="4191120"/>
              <a:ext cx="1828800" cy="228600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2286000"/>
                <a:gd name="textAreaBottom" fmla="*/ 219672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3600" y="0"/>
                  </a:moveTo>
                  <a:arcTo wR="3600" hR="3600" stAng="16200000" swAng="-5400000"/>
                  <a:lnTo>
                    <a:pt x="0" y="23399"/>
                  </a:lnTo>
                  <a:arcTo wR="3600" hR="3600" stAng="10800000" swAng="-5400000"/>
                  <a:lnTo>
                    <a:pt x="18000" y="269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85720" y="4343400"/>
              <a:ext cx="1447920" cy="914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95280" y="5362560"/>
              <a:ext cx="1828800" cy="11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u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it AP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f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ffcc66"/>
                </a:solidFill>
                <a:latin typeface="Times New Roman"/>
              </a:rPr>
              <a:t>APRS-Softwa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9933"/>
                </a:solidFill>
                <a:latin typeface="Arial"/>
              </a:rPr>
              <a:t>DOS:</a:t>
            </a: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 APRSdos von Bob Bruninga WB4AP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9933"/>
                </a:solidFill>
                <a:latin typeface="Arial"/>
              </a:rPr>
              <a:t>MacOS:</a:t>
            </a: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 MacAPRS von Keith und Mark Sproul WU2Z und KB2I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9933"/>
                </a:solidFill>
                <a:latin typeface="Arial"/>
              </a:rPr>
              <a:t>Win95/98/NT:</a:t>
            </a: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 WinAPRS von WU2Z und KB2ICI, UI-view von G4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9933"/>
                </a:solidFill>
                <a:latin typeface="Arial"/>
              </a:rPr>
              <a:t>Linux:</a:t>
            </a: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 Xastir von Frank Giannandrea KC0DGE und X-APRS von von WU2Z und KB2I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9933"/>
                </a:solidFill>
                <a:latin typeface="Arial"/>
              </a:rPr>
              <a:t>WinCE:</a:t>
            </a: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 APRS/CE von Rob Wittner KZ3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9933"/>
                </a:solidFill>
                <a:latin typeface="Arial"/>
              </a:rPr>
              <a:t>PalmOS:</a:t>
            </a: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 PocketAPRS von Mike Musick N0QB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79280" y="1219320"/>
            <a:ext cx="8863200" cy="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228600"/>
            <a:ext cx="779148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 Stationen HB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71680" y="1905120"/>
            <a:ext cx="8001000" cy="3962160"/>
            <a:chOff x="571680" y="1905120"/>
            <a:chExt cx="8001000" cy="3962160"/>
          </a:xfrm>
        </p:grpSpPr>
        <p:sp>
          <p:nvSpPr>
            <p:cNvPr id="171" name=""/>
            <p:cNvSpPr/>
            <p:nvPr/>
          </p:nvSpPr>
          <p:spPr>
            <a:xfrm>
              <a:off x="571680" y="1905120"/>
              <a:ext cx="8001000" cy="3962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768240" y="2050920"/>
              <a:ext cx="7607520" cy="367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6705720" y="5600880"/>
            <a:ext cx="190476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cc66"/>
                </a:solidFill>
                <a:latin typeface="Times New Roman"/>
              </a:rPr>
              <a:t>16. Mai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68480" y="-12600"/>
            <a:ext cx="7311960" cy="130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 Stationen Mitteleurop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199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914400" y="1523880"/>
            <a:ext cx="7696080" cy="5181480"/>
            <a:chOff x="914400" y="1523880"/>
            <a:chExt cx="7696080" cy="5181480"/>
          </a:xfrm>
        </p:grpSpPr>
        <p:sp>
          <p:nvSpPr>
            <p:cNvPr id="176" name=""/>
            <p:cNvSpPr/>
            <p:nvPr/>
          </p:nvSpPr>
          <p:spPr>
            <a:xfrm>
              <a:off x="914400" y="1523880"/>
              <a:ext cx="7696080" cy="51814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1447920" y="1752480"/>
              <a:ext cx="6642000" cy="47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"/>
          <p:cNvSpPr/>
          <p:nvPr/>
        </p:nvSpPr>
        <p:spPr>
          <a:xfrm>
            <a:off x="179280" y="1295280"/>
            <a:ext cx="8863200" cy="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8480" y="-12600"/>
            <a:ext cx="7311960" cy="130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 Stationen Mitteleurop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20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1295280"/>
            <a:ext cx="8863200" cy="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1280" y="1447920"/>
            <a:ext cx="8458200" cy="5181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69880" y="1690560"/>
            <a:ext cx="8001000" cy="4697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3520" y="-12600"/>
            <a:ext cx="8153280" cy="130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 Stationen Mitteleurop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200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1295280"/>
            <a:ext cx="8863200" cy="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371600"/>
            <a:ext cx="8267760" cy="5410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11360" y="1533600"/>
            <a:ext cx="7607160" cy="508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982880" y="290520"/>
            <a:ext cx="533088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 Stationen U.S.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1523880"/>
            <a:ext cx="8915400" cy="4800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54160" y="1854360"/>
            <a:ext cx="8584920" cy="41526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03320" y="1219320"/>
            <a:ext cx="8862840" cy="0"/>
          </a:xfrm>
          <a:prstGeom prst="line">
            <a:avLst/>
          </a:prstGeom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9280" y="990720"/>
            <a:ext cx="8863200" cy="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00480" y="76320"/>
            <a:ext cx="434340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X-AP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79280" y="1219320"/>
            <a:ext cx="8863200" cy="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228600"/>
            <a:ext cx="579096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TRX mit TNC und AP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1676520"/>
            <a:ext cx="6933960" cy="4838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1714680" cy="43052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505320" y="20574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686800" cy="876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: Eine Packet-Radio Betriebsart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7238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2000" y="2368440"/>
            <a:ext cx="716760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ffffff"/>
                </a:solidFill>
                <a:latin typeface="Arial"/>
              </a:rPr>
              <a:t>Vortrag und Dem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Ernst Niggli HB9PVI</a:t>
            </a: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  &amp;  </a:t>
            </a: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Kurt Marti HB9RMS_x0008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79280" y="1219320"/>
            <a:ext cx="8863200" cy="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38280" y="228600"/>
            <a:ext cx="426744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Pocket AP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1676520"/>
            <a:ext cx="6933960" cy="4838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2971800" cy="4432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2787480" cy="437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79280" y="1143000"/>
            <a:ext cx="8863200" cy="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380880"/>
            <a:ext cx="8229600" cy="87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/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1676520"/>
            <a:ext cx="73152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048120" cy="40640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371600" y="2057400"/>
            <a:ext cx="3048120" cy="4064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52280" y="1143000"/>
            <a:ext cx="365760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4640" y="230040"/>
            <a:ext cx="388332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Peilen mit AP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3320" y="1066680"/>
            <a:ext cx="8862840" cy="0"/>
          </a:xfrm>
          <a:prstGeom prst="line">
            <a:avLst/>
          </a:prstGeom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3920" y="2057400"/>
            <a:ext cx="4952880" cy="358128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07932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051440" y="2336760"/>
            <a:ext cx="4330440" cy="3035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057400" y="4343400"/>
            <a:ext cx="1436760" cy="2165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33520" y="1219320"/>
            <a:ext cx="2286000" cy="3047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133720" y="230040"/>
            <a:ext cx="518148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Telemetrie mit AP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3320" y="1066680"/>
            <a:ext cx="8862840" cy="0"/>
          </a:xfrm>
          <a:prstGeom prst="line">
            <a:avLst/>
          </a:prstGeom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1371600"/>
            <a:ext cx="8382240" cy="5181480"/>
          </a:xfrm>
          <a:prstGeom prst="rect">
            <a:avLst/>
          </a:prstGeom>
          <a:solidFill>
            <a:srgbClr val="003300"/>
          </a:solidFill>
          <a:ln w="0">
            <a:noFill/>
          </a:ln>
          <a:effectLst>
            <a:outerShdw dist="107932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3733920" cy="294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1828800" y="4876920"/>
          <a:ext cx="2438280" cy="1576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4876920"/>
                    <a:ext cx="243828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4648320" y="2017800"/>
            <a:ext cx="3454200" cy="20206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6870600" y="4178160"/>
            <a:ext cx="1587600" cy="22226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75880" y="57913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M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08920" y="5410080"/>
            <a:ext cx="84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Ti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Tr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99240" y="1523880"/>
            <a:ext cx="10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TAP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P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824120" y="147600"/>
            <a:ext cx="549576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Telemetrie mit AP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3320" y="1066680"/>
            <a:ext cx="8862840" cy="0"/>
          </a:xfrm>
          <a:prstGeom prst="line">
            <a:avLst/>
          </a:prstGeom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1219320"/>
            <a:ext cx="7467840" cy="548640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4762800" cy="3581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00400" y="1219320"/>
            <a:ext cx="5105520" cy="274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657600" y="1295280"/>
            <a:ext cx="4280040" cy="262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677960" y="154080"/>
            <a:ext cx="548316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Wetterstation via AP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320" y="1066680"/>
            <a:ext cx="8862840" cy="0"/>
          </a:xfrm>
          <a:prstGeom prst="line">
            <a:avLst/>
          </a:prstGeom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838080" y="1219320"/>
            <a:ext cx="7467840" cy="5486400"/>
            <a:chOff x="838080" y="1219320"/>
            <a:chExt cx="7467840" cy="5486400"/>
          </a:xfrm>
        </p:grpSpPr>
        <p:sp>
          <p:nvSpPr>
            <p:cNvPr id="236" name=""/>
            <p:cNvSpPr/>
            <p:nvPr/>
          </p:nvSpPr>
          <p:spPr>
            <a:xfrm>
              <a:off x="838080" y="1219320"/>
              <a:ext cx="7467840" cy="54864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1257480" y="1473120"/>
              <a:ext cx="6642000" cy="4991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677960" y="154080"/>
            <a:ext cx="5483160" cy="11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PCsat als APRS Satelli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cc66"/>
                </a:solidFill>
                <a:latin typeface="Times New Roman"/>
              </a:rPr>
              <a:t>QRV seit 30.9.2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3320" y="1447920"/>
            <a:ext cx="8862840" cy="0"/>
          </a:xfrm>
          <a:prstGeom prst="line">
            <a:avLst/>
          </a:prstGeom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676520"/>
            <a:ext cx="7467840" cy="50292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523880" y="2058840"/>
            <a:ext cx="6402600" cy="426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ffcc66"/>
                </a:solidFill>
                <a:latin typeface="Times New Roman"/>
              </a:rPr>
              <a:t>Internetanbindu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Beobachtung von APRS mit jedem Browser auf dem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APRSserve</a:t>
            </a: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: Dale Heatherington WA4D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Klient JavAPRS: </a:t>
            </a: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Steve Dimse, K4H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www.findu.com: SQL-Datenbank: </a:t>
            </a: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K4H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Telnet Verbindung mit Gateway-Funktion aus Win/MacAP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E-mail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Kurzmeldungen zum Rufzeichen EM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ICQ-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Kurzmeldungen zum Rufzeichen ICQSER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95360" y="152280"/>
            <a:ext cx="815328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 Datenserver www.findu.co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3320" y="914400"/>
            <a:ext cx="8862840" cy="0"/>
          </a:xfrm>
          <a:prstGeom prst="line">
            <a:avLst/>
          </a:prstGeom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43080" y="1143000"/>
            <a:ext cx="8458200" cy="5638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95360" y="152280"/>
            <a:ext cx="815328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 Datenserver www.findu.co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3320" y="914400"/>
            <a:ext cx="8862840" cy="0"/>
          </a:xfrm>
          <a:prstGeom prst="line">
            <a:avLst/>
          </a:prstGeom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54120" y="1066680"/>
            <a:ext cx="7835760" cy="5651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ffcc66"/>
                </a:solidFill>
                <a:latin typeface="Times New Roman"/>
              </a:rPr>
              <a:t>Übersich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42920"/>
            <a:ext cx="7391520" cy="41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Was ist AP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Anwendungen / Möglichkei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Was braucht man für AP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Anbindung von APRS-Netzen an das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Frequen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Wo bekommt man weitere Inf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95360" y="152280"/>
            <a:ext cx="815328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 Datenserver www.findu.co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3320" y="914400"/>
            <a:ext cx="8862840" cy="0"/>
          </a:xfrm>
          <a:prstGeom prst="line">
            <a:avLst/>
          </a:prstGeom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925040" cy="4762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95360" y="152280"/>
            <a:ext cx="815328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 Datenserver www.findu.co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3320" y="914400"/>
            <a:ext cx="8862840" cy="0"/>
          </a:xfrm>
          <a:prstGeom prst="line">
            <a:avLst/>
          </a:prstGeom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040360" cy="5486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0880" y="154080"/>
            <a:ext cx="822960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Wetter via APRS und Intern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3320" y="1066680"/>
            <a:ext cx="8862840" cy="0"/>
          </a:xfrm>
          <a:prstGeom prst="line">
            <a:avLst/>
          </a:prstGeom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1219320"/>
            <a:ext cx="7772400" cy="5486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209000" cy="480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09480" y="154080"/>
            <a:ext cx="815364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 Datenserver www.findu.co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3320" y="990720"/>
            <a:ext cx="8862840" cy="0"/>
          </a:xfrm>
          <a:prstGeom prst="line">
            <a:avLst/>
          </a:prstGeom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467840" cy="5600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ffcc66"/>
                </a:solidFill>
                <a:latin typeface="Times New Roman"/>
              </a:rPr>
              <a:t>Frequenz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IARU Region 1: 144.800 (144.812,5 MHz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HB9: 144.800 M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U.S.A.: 144.390 M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KW: 10.151 MHz L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Weitere Info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680" y="163836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Linkseite HB9E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http://www.hb9eh.ch/ap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Old-Man Artikel (7&amp;8/99) </a:t>
            </a: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HB9PVI &amp; HE9Z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http://beam.to/hb9p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WWW.APRS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Infos zu Hard- und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TAP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http://www.tapr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Softwarearchiv, Protokolle, Neuentwicklu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Newsgroups (E-mail Lis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76440" y="-360"/>
            <a:ext cx="779112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ffcc66"/>
                </a:solidFill>
                <a:latin typeface="Times New Roman"/>
              </a:rPr>
              <a:t>DEMO</a:t>
            </a:r>
            <a:endParaRPr b="0" lang="en-US" sz="9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ffcc66"/>
                </a:solidFill>
                <a:latin typeface="Times New Roman"/>
              </a:rPr>
              <a:t>Hardware für AP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50160" cy="384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Fixstation (manuelle Positionseingab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Computer, TNC (oder Soundcard), Transce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Automatische Positionsmeldung (Track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GPS, Computer, TNC, Transce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GPS, TNC mit GPS Unterstützung, Transce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GPS, APRS-Handy / APRS-Mobilgerä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GPS, PIC-Encoder, Transce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ffcc66"/>
                </a:solidFill>
                <a:latin typeface="Times New Roman"/>
              </a:rPr>
              <a:t>Hardware für AP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6680" y="1790280"/>
            <a:ext cx="7850160" cy="384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Wettermeldungen abset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Manuell oder mit Wetterstation, Computer, TNC, Transce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Peilen mit AP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Dopplerpeiler, Computer, TNC, Transce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Telemet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Micro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PIC-Encoder (TAP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ffcc66"/>
                </a:solidFill>
                <a:latin typeface="Times New Roman"/>
              </a:rPr>
              <a:t>Was ist APR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utomatic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osition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eporting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Eine Technik zum Übertragen von „real-time“ taktischen Information auf Packet Radio Net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Standort vom Amateurfunkstati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Geschwindigkeit und Kurs (G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Wetterda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Objekte (Gebäude, Wetterphänomene, Satelliten usw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Messwerte (Telemetrie: Ballons, Boj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ffcc66"/>
                </a:solidFill>
                <a:latin typeface="Times New Roman"/>
              </a:rPr>
              <a:t>Fixst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Zu Beginn gibt der Benutzer seinen Standort e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Dieser Standort wird an andere Stationen via einen vom Benutzer definierten Pfad weitergeleit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Es gibt keine Empfangsbestätig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Jeder Benutzer kann definieren, wie seine Station auf der Karte zur Darstellung kommen s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Antenne, Sendeturm, Auto, Jeep, Bus, Flugzeug, Motorrad us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Mit einem  PC, TNC und Transceiver kann man in APRS QRV werde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ffcc66"/>
                </a:solidFill>
                <a:latin typeface="Times New Roman"/>
              </a:rPr>
              <a:t>Mobilst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68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Mobilstationen mit TNC / Transceiver / Computer können wie Heimstationen arbeiten und den Standort manuell eingeb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Mobilstationen mit GPS Empfängern können periodisch NMEA-Strings senden. APRS decodiert diese Pakete und plaziert die Mobilstationen auf der Kar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Stand-Alone Tracker: braucht keinen Comp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ffcc66"/>
                </a:solidFill>
                <a:latin typeface="Times New Roman"/>
              </a:rPr>
              <a:t>Was ist APR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Peilrichtu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Propagationssit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DX-Cluster Meldu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Kurze Ma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Informationsdarstellung auf Computerkar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Information wird geloggt (play-bac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Neu: APRS Satellit PCSat als Digi / Message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9280" y="1219320"/>
            <a:ext cx="8863200" cy="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228600"/>
            <a:ext cx="779148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 Stationen Solothurn / Ber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790640" y="1600200"/>
            <a:ext cx="5562720" cy="4724280"/>
            <a:chOff x="1790640" y="1600200"/>
            <a:chExt cx="5562720" cy="4724280"/>
          </a:xfrm>
        </p:grpSpPr>
        <p:sp>
          <p:nvSpPr>
            <p:cNvPr id="67" name=""/>
            <p:cNvSpPr/>
            <p:nvPr/>
          </p:nvSpPr>
          <p:spPr>
            <a:xfrm>
              <a:off x="1790640" y="1600200"/>
              <a:ext cx="5562720" cy="4724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2013120" y="1765440"/>
              <a:ext cx="5118120" cy="4394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0040" y="152280"/>
            <a:ext cx="7791480" cy="1105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ffcc66"/>
                </a:solidFill>
                <a:latin typeface="Times New Roman"/>
              </a:rPr>
              <a:t>Wie funktioniert APR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84872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APRS braucht UI-Frames (Bak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APRS braucht kein Conn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Digipeater-Netz für grosse Distan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RELAY als Alias für alle Dig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WIDE als Alias für DX-Dig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Adresse &amp; Pfad: explizit definiert oder mit Al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APRS via HB9BA-4, W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APRS via RELAY, W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1200 Baud 2 m, 300 Baud KW (Gatewa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ffff"/>
                </a:solidFill>
                <a:latin typeface="Arial"/>
              </a:rPr>
              <a:t>Ein APRS Netz braucht nur eine Frequenz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38080" y="1676520"/>
            <a:ext cx="7467840" cy="502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6019920"/>
            <a:ext cx="4953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7960" y="154080"/>
            <a:ext cx="548316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 S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3320" y="914400"/>
            <a:ext cx="8862840" cy="0"/>
          </a:xfrm>
          <a:prstGeom prst="line">
            <a:avLst/>
          </a:prstGeom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30240" y="990720"/>
            <a:ext cx="5483520" cy="51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cc66"/>
                </a:solidFill>
                <a:latin typeface="Times New Roman"/>
              </a:rPr>
              <a:t>Fixs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019920" y="4191120"/>
            <a:ext cx="2133000" cy="2286000"/>
            <a:chOff x="6019920" y="4191120"/>
            <a:chExt cx="2133000" cy="2286000"/>
          </a:xfrm>
        </p:grpSpPr>
        <p:sp>
          <p:nvSpPr>
            <p:cNvPr id="79" name=""/>
            <p:cNvSpPr/>
            <p:nvPr/>
          </p:nvSpPr>
          <p:spPr>
            <a:xfrm>
              <a:off x="6019920" y="4191120"/>
              <a:ext cx="1828440" cy="228600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86000"/>
                <a:gd name="textAreaBottom" fmla="*/ 2197080 h 2286000"/>
              </a:gdLst>
              <a:ahLst/>
              <a:rect l="textAreaLeft" t="textAreaTop" r="textAreaRight" b="textAreaBottom"/>
              <a:pathLst>
                <a:path w="21600" h="27004">
                  <a:moveTo>
                    <a:pt x="3600" y="0"/>
                  </a:moveTo>
                  <a:arcTo wR="3600" hR="3600" stAng="16200000" swAng="-5400000"/>
                  <a:lnTo>
                    <a:pt x="0" y="23404"/>
                  </a:lnTo>
                  <a:arcTo wR="3600" hR="3600" stAng="10800000" swAng="-5400000"/>
                  <a:lnTo>
                    <a:pt x="18000" y="270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6324480" y="4343400"/>
              <a:ext cx="116784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6095880" y="5943600"/>
              <a:ext cx="20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ranscei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886200" y="5562720"/>
            <a:ext cx="1447920" cy="914400"/>
            <a:chOff x="3886200" y="5562720"/>
            <a:chExt cx="1447920" cy="914400"/>
          </a:xfrm>
        </p:grpSpPr>
        <p:sp>
          <p:nvSpPr>
            <p:cNvPr id="83" name=""/>
            <p:cNvSpPr/>
            <p:nvPr/>
          </p:nvSpPr>
          <p:spPr>
            <a:xfrm>
              <a:off x="3886200" y="5562720"/>
              <a:ext cx="1447920" cy="9144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91120" y="5791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N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295280" y="4191120"/>
            <a:ext cx="1828800" cy="2304000"/>
            <a:chOff x="1295280" y="4191120"/>
            <a:chExt cx="1828800" cy="2304000"/>
          </a:xfrm>
        </p:grpSpPr>
        <p:sp>
          <p:nvSpPr>
            <p:cNvPr id="86" name=""/>
            <p:cNvSpPr/>
            <p:nvPr/>
          </p:nvSpPr>
          <p:spPr>
            <a:xfrm>
              <a:off x="1295280" y="4191120"/>
              <a:ext cx="1828800" cy="228600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2286000"/>
                <a:gd name="textAreaBottom" fmla="*/ 219672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3600" y="0"/>
                  </a:moveTo>
                  <a:arcTo wR="3600" hR="3600" stAng="16200000" swAng="-5400000"/>
                  <a:lnTo>
                    <a:pt x="0" y="23399"/>
                  </a:lnTo>
                  <a:arcTo wR="3600" hR="3600" stAng="10800000" swAng="-5400000"/>
                  <a:lnTo>
                    <a:pt x="18000" y="269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85720" y="4343400"/>
              <a:ext cx="1447920" cy="914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95280" y="5362560"/>
              <a:ext cx="1828800" cy="11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u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it AP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f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886200" y="5562720"/>
            <a:ext cx="1447920" cy="914400"/>
            <a:chOff x="3886200" y="5562720"/>
            <a:chExt cx="1447920" cy="914400"/>
          </a:xfrm>
        </p:grpSpPr>
        <p:sp>
          <p:nvSpPr>
            <p:cNvPr id="90" name=""/>
            <p:cNvSpPr/>
            <p:nvPr/>
          </p:nvSpPr>
          <p:spPr>
            <a:xfrm>
              <a:off x="3886200" y="5562720"/>
              <a:ext cx="1447920" cy="9144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14800" y="5562720"/>
              <a:ext cx="1066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u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5300"/>
            </a:gs>
            <a:gs pos="100000">
              <a:srgbClr val="54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38080" y="1676520"/>
            <a:ext cx="7467840" cy="502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6019920"/>
            <a:ext cx="4953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7960" y="154080"/>
            <a:ext cx="548316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cc66"/>
                </a:solidFill>
                <a:latin typeface="Times New Roman"/>
              </a:rPr>
              <a:t>APRS S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3320" y="914400"/>
            <a:ext cx="8862840" cy="0"/>
          </a:xfrm>
          <a:prstGeom prst="line">
            <a:avLst/>
          </a:prstGeom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30240" y="990720"/>
            <a:ext cx="5483520" cy="51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cc66"/>
                </a:solidFill>
                <a:latin typeface="Times New Roman"/>
              </a:rPr>
              <a:t>Mobilstation / Track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019920" y="4191120"/>
            <a:ext cx="2133000" cy="2286000"/>
            <a:chOff x="6019920" y="4191120"/>
            <a:chExt cx="2133000" cy="2286000"/>
          </a:xfrm>
        </p:grpSpPr>
        <p:sp>
          <p:nvSpPr>
            <p:cNvPr id="98" name=""/>
            <p:cNvSpPr/>
            <p:nvPr/>
          </p:nvSpPr>
          <p:spPr>
            <a:xfrm>
              <a:off x="6019920" y="4191120"/>
              <a:ext cx="1828440" cy="228600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86000"/>
                <a:gd name="textAreaBottom" fmla="*/ 2197080 h 2286000"/>
              </a:gdLst>
              <a:ahLst/>
              <a:rect l="textAreaLeft" t="textAreaTop" r="textAreaRight" b="textAreaBottom"/>
              <a:pathLst>
                <a:path w="21600" h="27004">
                  <a:moveTo>
                    <a:pt x="3600" y="0"/>
                  </a:moveTo>
                  <a:arcTo wR="3600" hR="3600" stAng="16200000" swAng="-5400000"/>
                  <a:lnTo>
                    <a:pt x="0" y="23404"/>
                  </a:lnTo>
                  <a:arcTo wR="3600" hR="3600" stAng="10800000" swAng="-5400000"/>
                  <a:lnTo>
                    <a:pt x="18000" y="270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6324480" y="4343400"/>
              <a:ext cx="116784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095880" y="5943600"/>
              <a:ext cx="20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ranscei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886200" y="5562720"/>
            <a:ext cx="1447920" cy="914400"/>
            <a:chOff x="3886200" y="5562720"/>
            <a:chExt cx="1447920" cy="914400"/>
          </a:xfrm>
        </p:grpSpPr>
        <p:sp>
          <p:nvSpPr>
            <p:cNvPr id="102" name=""/>
            <p:cNvSpPr/>
            <p:nvPr/>
          </p:nvSpPr>
          <p:spPr>
            <a:xfrm>
              <a:off x="3886200" y="5562720"/>
              <a:ext cx="1447920" cy="9144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91120" y="5791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N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523880" y="5562720"/>
            <a:ext cx="1447920" cy="914400"/>
            <a:chOff x="1523880" y="5562720"/>
            <a:chExt cx="1447920" cy="914400"/>
          </a:xfrm>
        </p:grpSpPr>
        <p:sp>
          <p:nvSpPr>
            <p:cNvPr id="105" name=""/>
            <p:cNvSpPr/>
            <p:nvPr/>
          </p:nvSpPr>
          <p:spPr>
            <a:xfrm>
              <a:off x="1523880" y="5562720"/>
              <a:ext cx="1447920" cy="9144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800" y="5791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P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295280" y="4191120"/>
            <a:ext cx="1828800" cy="2304000"/>
            <a:chOff x="1295280" y="4191120"/>
            <a:chExt cx="1828800" cy="2304000"/>
          </a:xfrm>
        </p:grpSpPr>
        <p:sp>
          <p:nvSpPr>
            <p:cNvPr id="108" name=""/>
            <p:cNvSpPr/>
            <p:nvPr/>
          </p:nvSpPr>
          <p:spPr>
            <a:xfrm>
              <a:off x="1295280" y="4191120"/>
              <a:ext cx="1828800" cy="228600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2286000"/>
                <a:gd name="textAreaBottom" fmla="*/ 219672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3600" y="0"/>
                  </a:moveTo>
                  <a:arcTo wR="3600" hR="3600" stAng="16200000" swAng="-5400000"/>
                  <a:lnTo>
                    <a:pt x="0" y="23399"/>
                  </a:lnTo>
                  <a:arcTo wR="3600" hR="3600" stAng="10800000" swAng="-5400000"/>
                  <a:lnTo>
                    <a:pt x="18000" y="269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85720" y="4343400"/>
              <a:ext cx="1447920" cy="914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95280" y="5362560"/>
              <a:ext cx="1828800" cy="11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u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it AP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f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886200" y="5562720"/>
            <a:ext cx="1447920" cy="914400"/>
            <a:chOff x="3886200" y="5562720"/>
            <a:chExt cx="1447920" cy="914400"/>
          </a:xfrm>
        </p:grpSpPr>
        <p:sp>
          <p:nvSpPr>
            <p:cNvPr id="112" name=""/>
            <p:cNvSpPr/>
            <p:nvPr/>
          </p:nvSpPr>
          <p:spPr>
            <a:xfrm>
              <a:off x="3886200" y="5562720"/>
              <a:ext cx="1447920" cy="9144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8480" y="5562720"/>
              <a:ext cx="106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in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rac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nst Niggli</cp:lastModifiedBy>
  <dcterms:modified xsi:type="dcterms:W3CDTF">2001-10-23T11:14:34Z</dcterms:modified>
  <cp:revision>87</cp:revision>
  <dc:subject/>
  <dc:title>APRS: Eine Packet-Radio Betriebsart</dc:title>
</cp:coreProperties>
</file>