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.png" ContentType="image/png"/>
  <Override PartName="/ppt/media/image4.pct" ContentType="image/x-pict"/>
  <Override PartName="/ppt/media/image12.png" ContentType="image/png"/>
  <Override PartName="/ppt/media/image6.png" ContentType="image/png"/>
  <Override PartName="/ppt/media/image11.png" ContentType="image/png"/>
  <Override PartName="/ppt/media/image7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30.png" ContentType="image/png"/>
  <Override PartName="/ppt/media/image16.pct" ContentType="image/x-pict"/>
  <Override PartName="/ppt/media/image28.png" ContentType="image/png"/>
  <Override PartName="/ppt/media/image31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1.png" ContentType="image/png"/>
  <Override PartName="/ppt/media/image14.png" ContentType="image/png"/>
  <Override PartName="/ppt/media/image17.png" ContentType="image/png"/>
  <Override PartName="/ppt/media/image24.pct" ContentType="image/x-pict"/>
  <Override PartName="/ppt/media/image27.png" ContentType="image/png"/>
  <Override PartName="/ppt/media/image15.pct" ContentType="image/x-pict"/>
  <Override PartName="/ppt/media/image18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6.png" ContentType="image/png"/>
  <Override PartName="/ppt/media/image2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82400" y="936612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F819-46CE-48F9-AEB5-AE837B34A92A}" type="slidenum">
              <a:rPr b="0" i="1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90040" y="15228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5b84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35040" y="1219320"/>
            <a:ext cx="8280360" cy="75960"/>
            <a:chOff x="635040" y="1219320"/>
            <a:chExt cx="8280360" cy="75960"/>
          </a:xfrm>
        </p:grpSpPr>
        <p:sp>
          <p:nvSpPr>
            <p:cNvPr id="2" name=""/>
            <p:cNvSpPr/>
            <p:nvPr/>
          </p:nvSpPr>
          <p:spPr>
            <a:xfrm>
              <a:off x="635040" y="1295280"/>
              <a:ext cx="82803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9520" y="1219320"/>
              <a:ext cx="823068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pct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Mobilstation /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58080" y="4191120"/>
            <a:ext cx="2133000" cy="2286000"/>
            <a:chOff x="6058080" y="4191120"/>
            <a:chExt cx="2133000" cy="2286000"/>
          </a:xfrm>
        </p:grpSpPr>
        <p:sp>
          <p:nvSpPr>
            <p:cNvPr id="120" name=""/>
            <p:cNvSpPr/>
            <p:nvPr/>
          </p:nvSpPr>
          <p:spPr>
            <a:xfrm>
              <a:off x="605808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36264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13404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24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23880" y="5562720"/>
            <a:ext cx="1447920" cy="914400"/>
            <a:chOff x="1523880" y="5562720"/>
            <a:chExt cx="1447920" cy="914400"/>
          </a:xfrm>
        </p:grpSpPr>
        <p:sp>
          <p:nvSpPr>
            <p:cNvPr id="127" name=""/>
            <p:cNvSpPr/>
            <p:nvPr/>
          </p:nvSpPr>
          <p:spPr>
            <a:xfrm>
              <a:off x="152388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4191120"/>
            <a:ext cx="2057400" cy="2286000"/>
            <a:chOff x="5943600" y="4191120"/>
            <a:chExt cx="2057400" cy="2286000"/>
          </a:xfrm>
        </p:grpSpPr>
        <p:sp>
          <p:nvSpPr>
            <p:cNvPr id="130" name=""/>
            <p:cNvSpPr/>
            <p:nvPr/>
          </p:nvSpPr>
          <p:spPr>
            <a:xfrm>
              <a:off x="60580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388200" y="4203720"/>
              <a:ext cx="11682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943600" y="56386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Wetterstation / Teleme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139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43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095560" y="2514600"/>
            <a:ext cx="5371920" cy="914400"/>
            <a:chOff x="2095560" y="2514600"/>
            <a:chExt cx="5371920" cy="914400"/>
          </a:xfrm>
        </p:grpSpPr>
        <p:sp>
          <p:nvSpPr>
            <p:cNvPr id="146" name=""/>
            <p:cNvSpPr/>
            <p:nvPr/>
          </p:nvSpPr>
          <p:spPr>
            <a:xfrm>
              <a:off x="2095560" y="3048120"/>
              <a:ext cx="49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943600" y="2514600"/>
              <a:ext cx="1523880" cy="914400"/>
              <a:chOff x="5943600" y="2514600"/>
              <a:chExt cx="1523880" cy="91440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360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2560680"/>
                <a:ext cx="1523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cro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2247840" y="2514600"/>
            <a:ext cx="3009960" cy="914400"/>
            <a:chOff x="2247840" y="2514600"/>
            <a:chExt cx="3009960" cy="914400"/>
          </a:xfrm>
        </p:grpSpPr>
        <p:sp>
          <p:nvSpPr>
            <p:cNvPr id="151" name=""/>
            <p:cNvSpPr/>
            <p:nvPr/>
          </p:nvSpPr>
          <p:spPr>
            <a:xfrm>
              <a:off x="2247840" y="3048120"/>
              <a:ext cx="2324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809880" y="2514600"/>
              <a:ext cx="1447920" cy="914400"/>
              <a:chOff x="3809880" y="2514600"/>
              <a:chExt cx="1447920" cy="914400"/>
            </a:xfrm>
          </p:grpSpPr>
          <p:sp>
            <p:nvSpPr>
              <p:cNvPr id="153" name=""/>
              <p:cNvSpPr/>
              <p:nvPr/>
            </p:nvSpPr>
            <p:spPr>
              <a:xfrm>
                <a:off x="380988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86200" y="25606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pp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i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00200" y="2514600"/>
            <a:ext cx="1447920" cy="2438280"/>
            <a:chOff x="1600200" y="2514600"/>
            <a:chExt cx="1447920" cy="2438280"/>
          </a:xfrm>
        </p:grpSpPr>
        <p:sp>
          <p:nvSpPr>
            <p:cNvPr id="156" name=""/>
            <p:cNvSpPr/>
            <p:nvPr/>
          </p:nvSpPr>
          <p:spPr>
            <a:xfrm>
              <a:off x="2286000" y="31240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600200" y="2514600"/>
              <a:ext cx="1447920" cy="914400"/>
              <a:chOff x="1600200" y="2514600"/>
              <a:chExt cx="1447920" cy="914400"/>
            </a:xfrm>
          </p:grpSpPr>
          <p:sp>
            <p:nvSpPr>
              <p:cNvPr id="158" name=""/>
              <p:cNvSpPr/>
              <p:nvPr/>
            </p:nvSpPr>
            <p:spPr>
              <a:xfrm>
                <a:off x="160020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76520" y="25606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tter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161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APRS-Softw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D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APRSdos von Bob Bruninga WB4A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Mac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MacAPRS von Keith und Mark Sproul WU2Z und KB2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Win95/98/NT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WinAPRS von WU2Z und KB2ICI, UI-view von G4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Linux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Xastir von Frank Giannandrea KC0DGE und X-APRS von von WU2Z und KB2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WinCE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APRS/CE von Rob Wittner KZ3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Palm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PocketAPRS von Mike Musick N0Q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28600"/>
            <a:ext cx="779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HB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71680" y="1905120"/>
            <a:ext cx="8001000" cy="3962160"/>
            <a:chOff x="571680" y="1905120"/>
            <a:chExt cx="8001000" cy="3962160"/>
          </a:xfrm>
        </p:grpSpPr>
        <p:sp>
          <p:nvSpPr>
            <p:cNvPr id="171" name=""/>
            <p:cNvSpPr/>
            <p:nvPr/>
          </p:nvSpPr>
          <p:spPr>
            <a:xfrm>
              <a:off x="571680" y="1905120"/>
              <a:ext cx="8001000" cy="3962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68240" y="2050920"/>
              <a:ext cx="7607520" cy="367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6705720" y="5600880"/>
            <a:ext cx="1904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cc66"/>
                </a:solidFill>
                <a:latin typeface="Times New Roman"/>
              </a:rPr>
              <a:t>16. Mai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8480" y="-12600"/>
            <a:ext cx="731196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199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1523880"/>
            <a:ext cx="7696080" cy="5181480"/>
            <a:chOff x="914400" y="1523880"/>
            <a:chExt cx="7696080" cy="5181480"/>
          </a:xfrm>
        </p:grpSpPr>
        <p:sp>
          <p:nvSpPr>
            <p:cNvPr id="176" name=""/>
            <p:cNvSpPr/>
            <p:nvPr/>
          </p:nvSpPr>
          <p:spPr>
            <a:xfrm>
              <a:off x="914400" y="1523880"/>
              <a:ext cx="7696080" cy="5181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447920" y="1752480"/>
              <a:ext cx="6642000" cy="47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8480" y="-12600"/>
            <a:ext cx="731196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2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280" y="1447920"/>
            <a:ext cx="8458200" cy="5181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9880" y="1690560"/>
            <a:ext cx="8001000" cy="469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-12600"/>
            <a:ext cx="815328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371600"/>
            <a:ext cx="8267760" cy="5410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1360" y="1533600"/>
            <a:ext cx="7607160" cy="50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2880" y="290520"/>
            <a:ext cx="53308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U.S.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523880"/>
            <a:ext cx="8915400" cy="4800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4160" y="1854360"/>
            <a:ext cx="8584920" cy="4152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3320" y="12193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9907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0480" y="76320"/>
            <a:ext cx="4343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X-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28600"/>
            <a:ext cx="57909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RX mit TNC und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676520"/>
            <a:ext cx="693396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14680" cy="430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86800" cy="87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: Eine Packet-Radio Betriebsar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0" y="2368440"/>
            <a:ext cx="71676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Arial"/>
              </a:rPr>
              <a:t>Vortrag und De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rnst Niggli HB9PVI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  &amp;  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urt Marti HB9RMS_x0008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228600"/>
            <a:ext cx="426744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ocke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1676520"/>
            <a:ext cx="693396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971800" cy="443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787480" cy="43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14300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880"/>
            <a:ext cx="8229600" cy="87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/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676520"/>
            <a:ext cx="7315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1143000"/>
            <a:ext cx="36576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4640" y="230040"/>
            <a:ext cx="388332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eilen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057400"/>
            <a:ext cx="4952880" cy="35812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51440" y="2336760"/>
            <a:ext cx="4330440" cy="3035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143676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33720" y="230040"/>
            <a:ext cx="51814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elemetrie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371600"/>
            <a:ext cx="8382240" cy="518148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29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828800" y="4876920"/>
          <a:ext cx="2438280" cy="157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87692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648320" y="2017800"/>
            <a:ext cx="3454200" cy="2020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870600" y="4178160"/>
            <a:ext cx="1587600" cy="2222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5880" y="579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920" y="541008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99240" y="152388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A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824120" y="147600"/>
            <a:ext cx="54957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elemetrie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219320"/>
            <a:ext cx="7467840" cy="548640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4762800" cy="3581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00400" y="1219320"/>
            <a:ext cx="510552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428004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tterstation via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8080" y="1219320"/>
            <a:ext cx="7467840" cy="5486400"/>
            <a:chOff x="838080" y="1219320"/>
            <a:chExt cx="7467840" cy="5486400"/>
          </a:xfrm>
        </p:grpSpPr>
        <p:sp>
          <p:nvSpPr>
            <p:cNvPr id="236" name=""/>
            <p:cNvSpPr/>
            <p:nvPr/>
          </p:nvSpPr>
          <p:spPr>
            <a:xfrm>
              <a:off x="838080" y="1219320"/>
              <a:ext cx="7467840" cy="5486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1257480" y="1473120"/>
              <a:ext cx="6642000" cy="499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77960" y="154080"/>
            <a:ext cx="5483160" cy="11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Csat als APRS Satell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cc66"/>
                </a:solidFill>
                <a:latin typeface="Times New Roman"/>
              </a:rPr>
              <a:t>QRV seit 30.9.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3320" y="14479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058840"/>
            <a:ext cx="6402600" cy="426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Internetanbind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Beobachtung von APRS mit jedem Browser auf dem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serve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: Dale Heatherington WA4D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lient JavAPRS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Steve Dimse, K4H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ww.findu.com: SQL-Datenbank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K4H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elnet Verbindung mit Gateway-Funktion aus Win/MacA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-mail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Kurzmeldungen zum Rufzeichen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CQ-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Kurzmeldungen zum Rufzeichen ICQS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43080" y="114300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54120" y="1066680"/>
            <a:ext cx="7835760" cy="565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Übersic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42920"/>
            <a:ext cx="739152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as ist AP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nwendungen / Möglich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as braucht man für AP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nbindung von APRS-Netzen an das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Frequen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o bekommt man weitere Inf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76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154080"/>
            <a:ext cx="82296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tter via APRS und Inter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219320"/>
            <a:ext cx="7772400" cy="5486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09000" cy="480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54080"/>
            <a:ext cx="815364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3320" y="9907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Frequenz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IARU Region 1: 144.800 (144.812,5 MH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HB9: 144.80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U.S.A.: 144.39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KW: 10.151 MHz L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itere Info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383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Linkseite HB9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www.hb9eh.ch/a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Old-Man Artikel (7&amp;8/99) 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B9PVI &amp; HE9Z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beam.to/hb9p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WWW.APRS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s zu Hard- u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TA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www.ta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oftwarearchiv, Protokolle, Neuentwickl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Newsgroups (E-mail Lis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9112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cc66"/>
                </a:solidFill>
                <a:latin typeface="Times New Roman"/>
              </a:rPr>
              <a:t>DEMO</a:t>
            </a:r>
            <a:endParaRPr b="0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Hardware für AP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5016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Fixstation (manuelle Positionseingab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puter, TNC (oder Soundcard)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utomatische Positionsmeldung (Track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TNC mit GPS Unterstützung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APRS-Handy / APRS-Mobil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PIC-Encoder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Hardware für AP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790280"/>
            <a:ext cx="7850160" cy="38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ttermeldungen abs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Manuell oder mit Wetterstation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eilen mit A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Dopplerpeiler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ele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Micro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IC-Encoder (TAP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as is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utomatic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osition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porti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ine Technik zum Übertragen von „real-time“ taktischen Information auf Packet Radio N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tandort vom Amateurfunkstati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Geschwindigkeit und Kurs (G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tterd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Objekte (Gebäude, Wetterphänomene, Satelliten usw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esswerte (Telemetrie: Ballons, Boj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Fixs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Zu Beginn gibt der Benutzer seinen Standort 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ieser Standort wird an andere Stationen via einen vom Benutzer definierten Pfad weitergele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s gibt keine Empfangsbestätig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Jeder Benutzer kann definieren, wie seine Station auf der Karte zur Darstellung kommen s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Antenne, Sendeturm, Auto, Jeep, Bus, Flugzeug, Motorrad us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it einem  PC, TNC und Transceiver kann man in APRS QRV wer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Mobils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obilstationen mit TNC / Transceiver / Computer können wie Heimstationen arbeiten und den Standort manuell einge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obilstationen mit GPS Empfängern können periodisch NMEA-Strings senden. APRS decodiert diese Pakete und plaziert die Mobilstationen auf der K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tand-Alone Tracker: braucht keinen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as is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eilricht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ropagations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X-Cluster Meld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urze M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rmationsdarstellung auf Computerk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rmation wird geloggt (play-ba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Neu: APRS Satellit PCSat als Digi / Message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8600"/>
            <a:ext cx="779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Solothurn / Be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90640" y="1600200"/>
            <a:ext cx="5562720" cy="4724280"/>
            <a:chOff x="1790640" y="1600200"/>
            <a:chExt cx="5562720" cy="4724280"/>
          </a:xfrm>
        </p:grpSpPr>
        <p:sp>
          <p:nvSpPr>
            <p:cNvPr id="67" name=""/>
            <p:cNvSpPr/>
            <p:nvPr/>
          </p:nvSpPr>
          <p:spPr>
            <a:xfrm>
              <a:off x="1790640" y="1600200"/>
              <a:ext cx="5562720" cy="4724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013120" y="1765440"/>
              <a:ext cx="5118120" cy="4394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ie funktionier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 braucht UI-Frames (B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 braucht kein Conn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igipeater-Netz für grosse Distan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RELAY als Alias für alle Di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IDE als Alias für DX-Di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dresse &amp; Pfad: explizit definiert oder mit A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APRS via HB9BA-4,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APRS via RELAY,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1200 Baud 2 m, 300 Baud KW (Gatew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in APRS Netz braucht nur eine Frequenz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Fix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79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83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86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90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800" y="556272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Mobilstation /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98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02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3880" y="5562720"/>
            <a:ext cx="1447920" cy="914400"/>
            <a:chOff x="1523880" y="5562720"/>
            <a:chExt cx="1447920" cy="914400"/>
          </a:xfrm>
        </p:grpSpPr>
        <p:sp>
          <p:nvSpPr>
            <p:cNvPr id="105" name=""/>
            <p:cNvSpPr/>
            <p:nvPr/>
          </p:nvSpPr>
          <p:spPr>
            <a:xfrm>
              <a:off x="152388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108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12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5562720"/>
              <a:ext cx="106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nst Niggli</cp:lastModifiedBy>
  <dcterms:modified xsi:type="dcterms:W3CDTF">2001-10-23T11:14:34Z</dcterms:modified>
  <cp:revision>87</cp:revision>
  <dc:subject/>
  <dc:title>APRS: Eine Packet-Radio Betriebsart</dc:title>
</cp:coreProperties>
</file>